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68B-76A5-4284-895C-3D8773A6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980-DDCB-46C5-9CD5-440D8C17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A1A-DFA9-4EB6-A9D8-3FEBA09C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FFD-53D3-470A-9EF8-1407DDA5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549-7871-4A99-836F-0DF79102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45C-B5F1-4EB5-9B52-B7B2BA4A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970-6745-4122-91F6-361E8657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32B-6902-4572-88A0-BB6E0616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78E-1ADA-4FB1-BED7-862DCBCF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D1D-C69A-46DF-93DA-C198071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96E-0537-4470-B21A-C65DEAF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6DB-C11F-4563-88D0-DB3AB951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035-E4D9-42E0-98B2-A5A1EA193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untadeandalucia.es/averroes/iesgaviota/fisiqui/practicasq/node3.html" TargetMode="External"/><Relationship Id="rId3" Type="http://schemas.openxmlformats.org/officeDocument/2006/relationships/hyperlink" Target="http://www.juntadeandalucia.es/averroes/iesgaviota/fisiqui/practicasq/node3.html" TargetMode="External"/><Relationship Id="rId4" Type="http://schemas.openxmlformats.org/officeDocument/2006/relationships/hyperlink" Target="http://www.juntadeandalucia.es/averroes/iesgaviota/fisiqui/practicasq/node3.html" TargetMode="External"/><Relationship Id="rId5" Type="http://schemas.openxmlformats.org/officeDocument/2006/relationships/hyperlink" Target="http://www.juntadeandalucia.es/averroes/iesgaviota/fisiqui/practicasq/node3.html" TargetMode="External"/><Relationship Id="rId6" Type="http://schemas.openxmlformats.org/officeDocument/2006/relationships/hyperlink" Target="http://www.juntadeandalucia.es/averroes/iesgaviota/fisiqui/practicasq/node3.html" TargetMode="External"/><Relationship Id="rId7" Type="http://schemas.openxmlformats.org/officeDocument/2006/relationships/hyperlink" Target="http://www.juntadeandalucia.es/averroes/iesgaviota/fisiqui/practicasq/node3.html" TargetMode="External"/><Relationship Id="rId8" Type="http://schemas.openxmlformats.org/officeDocument/2006/relationships/hyperlink" Target="http://www.juntadeandalucia.es/averroes/iesgaviota/fisiqui/practicasq/node3.html" TargetMode="External"/><Relationship Id="rId9" Type="http://schemas.openxmlformats.org/officeDocument/2006/relationships/hyperlink" Target="http://www.juntadeandalucia.es/averroes/iesgaviota/fisiqui/practicasq/node3.html" TargetMode="External"/><Relationship Id="rId10" Type="http://schemas.openxmlformats.org/officeDocument/2006/relationships/hyperlink" Target="http://www.juntadeandalucia.es/averroes/iesgaviota/fisiqui/practicasq/node3.html" TargetMode="External"/><Relationship Id="rId11" Type="http://schemas.openxmlformats.org/officeDocument/2006/relationships/hyperlink" Target="http://www.juntadeandalucia.es/averroes/iesgaviota/fisiqui/practicasq/node3.html" TargetMode="External"/><Relationship Id="rId12" Type="http://schemas.openxmlformats.org/officeDocument/2006/relationships/hyperlink" Target="http://www.juntadeandalucia.es/averroes/iesgaviota/fisiqui/practicasq/node3.html" TargetMode="External"/><Relationship Id="rId13" Type="http://schemas.openxmlformats.org/officeDocument/2006/relationships/hyperlink" Target="http://www.juntadeandalucia.es/averroes/iesgaviota/fisiqui/practicasq/node3.html" TargetMode="External"/><Relationship Id="rId14" Type="http://schemas.openxmlformats.org/officeDocument/2006/relationships/hyperlink" Target="http://www.juntadeandalucia.es/averroes/iesgaviota/fisiqui/practicasq/node3.html" TargetMode="External"/><Relationship Id="rId15" Type="http://schemas.openxmlformats.org/officeDocument/2006/relationships/hyperlink" Target="http://www.juntadeandalucia.es/averroes/iesgaviota/fisiqui/practicasq/node3.html" TargetMode="External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áginas Consultadas:     </a:t>
            </a:r>
            <a:r>
              <a:rPr b="1" lang="es-ES_tradnl" sz="3200" spc="-1" strike="noStrike">
                <a:solidFill>
                  <a:srgbClr val="9933ff"/>
                </a:solidFill>
                <a:latin typeface="Times New Roman"/>
              </a:rPr>
              <a:t>Técnica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écnica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ormas de segurida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arrakis.es/~rfluengo/norma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Material de labor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monografias.com/trabajos34/instrumental-laboratorio/instrumental-laboratorio.s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Elaboración de infor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4"/>
              </a:rPr>
              <a:t>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5"/>
              </a:rPr>
              <a:t>juntadeandaluci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6"/>
              </a:rPr>
              <a:t>.es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7"/>
              </a:rPr>
              <a:t>averroes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9"/>
              </a:rPr>
              <a:t>iesgaviot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1"/>
              </a:rPr>
              <a:t>fisiqui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2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3"/>
              </a:rPr>
              <a:t>practicasq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4"/>
              </a:rPr>
              <a:t>/node3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5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as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http://www.iestiemposmodernos.com/diverciencia/las_pc/pc_menu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on orde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sc.ehu.es/sbweb/fisica/default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9:40:38Z</dcterms:created>
  <dc:creator>Marianin</dc:creator>
  <dc:description/>
  <dc:language>en-US</dc:language>
  <cp:lastModifiedBy>Marianin</cp:lastModifiedBy>
  <dcterms:modified xsi:type="dcterms:W3CDTF">2008-11-23T12:22:33Z</dcterms:modified>
  <cp:revision>12</cp:revision>
  <dc:subject/>
  <dc:title>Presentación de PowerPoint</dc:title>
</cp:coreProperties>
</file>