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2C8-937A-43E5-8BBA-CE3A401C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986-C644-4D24-B453-77AB71F7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5B4-EF11-4B51-A386-37A442AD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751-A094-456B-9542-98CDEF02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406-B2EA-4A45-9DB3-FBC2C1D3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5E1-E886-4BDC-9D66-6FE355C7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E16-AD80-4D4E-81DB-52F1B80D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9F2-BDD8-4903-80CE-55090867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534-0649-4071-BDB4-FD37283B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29A-670A-4451-A470-7EC75E7C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380-EEFB-4029-997A-280C286D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1B2-FAF0-4911-9320-A422997D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181D-450B-49D7-9054-7548FE235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juntadeandalucia.es/averroes/iesgaviota/fisiqui/practicasq/node3.html" TargetMode="External"/><Relationship Id="rId3" Type="http://schemas.openxmlformats.org/officeDocument/2006/relationships/hyperlink" Target="http://www.juntadeandalucia.es/averroes/iesgaviota/fisiqui/practicasq/node3.html" TargetMode="External"/><Relationship Id="rId4" Type="http://schemas.openxmlformats.org/officeDocument/2006/relationships/hyperlink" Target="http://www.juntadeandalucia.es/averroes/iesgaviota/fisiqui/practicasq/node3.html" TargetMode="External"/><Relationship Id="rId5" Type="http://schemas.openxmlformats.org/officeDocument/2006/relationships/hyperlink" Target="http://www.juntadeandalucia.es/averroes/iesgaviota/fisiqui/practicasq/node3.html" TargetMode="External"/><Relationship Id="rId6" Type="http://schemas.openxmlformats.org/officeDocument/2006/relationships/hyperlink" Target="http://www.juntadeandalucia.es/averroes/iesgaviota/fisiqui/practicasq/node3.html" TargetMode="External"/><Relationship Id="rId7" Type="http://schemas.openxmlformats.org/officeDocument/2006/relationships/hyperlink" Target="http://www.juntadeandalucia.es/averroes/iesgaviota/fisiqui/practicasq/node3.html" TargetMode="External"/><Relationship Id="rId8" Type="http://schemas.openxmlformats.org/officeDocument/2006/relationships/hyperlink" Target="http://www.juntadeandalucia.es/averroes/iesgaviota/fisiqui/practicasq/node3.html" TargetMode="External"/><Relationship Id="rId9" Type="http://schemas.openxmlformats.org/officeDocument/2006/relationships/hyperlink" Target="http://www.juntadeandalucia.es/averroes/iesgaviota/fisiqui/practicasq/node3.html" TargetMode="External"/><Relationship Id="rId10" Type="http://schemas.openxmlformats.org/officeDocument/2006/relationships/hyperlink" Target="http://www.juntadeandalucia.es/averroes/iesgaviota/fisiqui/practicasq/node3.html" TargetMode="External"/><Relationship Id="rId11" Type="http://schemas.openxmlformats.org/officeDocument/2006/relationships/hyperlink" Target="http://www.juntadeandalucia.es/averroes/iesgaviota/fisiqui/practicasq/node3.html" TargetMode="External"/><Relationship Id="rId12" Type="http://schemas.openxmlformats.org/officeDocument/2006/relationships/hyperlink" Target="http://www.juntadeandalucia.es/averroes/iesgaviota/fisiqui/practicasq/node3.html" TargetMode="External"/><Relationship Id="rId13" Type="http://schemas.openxmlformats.org/officeDocument/2006/relationships/hyperlink" Target="http://www.juntadeandalucia.es/averroes/iesgaviota/fisiqui/practicasq/node3.html" TargetMode="External"/><Relationship Id="rId14" Type="http://schemas.openxmlformats.org/officeDocument/2006/relationships/hyperlink" Target="http://www.juntadeandalucia.es/averroes/iesgaviota/fisiqui/practicasq/node3.html" TargetMode="External"/><Relationship Id="rId15" Type="http://schemas.openxmlformats.org/officeDocument/2006/relationships/hyperlink" Target="http://www.juntadeandalucia.es/averroes/iesgaviota/fisiqui/practicasq/node3.html" TargetMode="External"/><Relationship Id="rId1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áginas Consultadas:     </a:t>
            </a:r>
            <a:r>
              <a:rPr b="1" lang="es-ES_tradnl" sz="3200" spc="-1" strike="noStrike">
                <a:solidFill>
                  <a:srgbClr val="9933ff"/>
                </a:solidFill>
                <a:latin typeface="Times New Roman"/>
              </a:rPr>
              <a:t>Técnica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écnica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Normas de seguridad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arrakis.es/~rfluengo/norma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Material de labora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monografias.com/trabajos34/instrumental-laboratorio/instrumental-laboratorio.s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Elaboración de inform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4"/>
              </a:rPr>
              <a:t>.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5"/>
              </a:rPr>
              <a:t>juntadeandalucia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6"/>
              </a:rPr>
              <a:t>.es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7"/>
              </a:rPr>
              <a:t>averroes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8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9"/>
              </a:rPr>
              <a:t>iesgaviota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0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1"/>
              </a:rPr>
              <a:t>fisiqui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2"/>
              </a:rPr>
              <a:t>/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3"/>
              </a:rPr>
              <a:t>practicasq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4"/>
              </a:rPr>
              <a:t>/node3.</a:t>
            </a:r>
            <a:r>
              <a:rPr b="0" lang="es-ES_tradnl" sz="1400" spc="-1" strike="noStrike" u="sng">
                <a:solidFill>
                  <a:srgbClr val="9933ff"/>
                </a:solidFill>
                <a:uFillTx/>
                <a:latin typeface="Arial"/>
                <a:hlinkClick r:id="rId15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Prácticas case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http://www.iestiemposmodernos.com/diverciencia/las_pc/pc_menu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Prácticas con orde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s-ES_tradnl" sz="1400" spc="-1" strike="noStrike">
                <a:solidFill>
                  <a:srgbClr val="ff0000"/>
                </a:solidFill>
                <a:latin typeface="Arial"/>
              </a:rPr>
              <a:t>http://www.sc.ehu.es/sbweb/fisica/default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19:40:38Z</dcterms:created>
  <dc:creator>Marianin</dc:creator>
  <dc:description/>
  <dc:language>en-US</dc:language>
  <cp:lastModifiedBy>Marianin</cp:lastModifiedBy>
  <dcterms:modified xsi:type="dcterms:W3CDTF">2008-11-23T12:22:33Z</dcterms:modified>
  <cp:revision>12</cp:revision>
  <dc:subject/>
  <dc:title>Presentación de PowerPoint</dc:title>
</cp:coreProperties>
</file>