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886-A152-4CA7-A482-64EB7254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90C-B7B0-4B72-974E-AADAE7FF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EE4-7361-4651-8A1F-5332D2C0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F13-65AA-4266-AA1E-D2BEC424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521-90EC-4D19-A454-F20F5BBD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2F8-B83D-49E7-9D1B-AD626566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247-6B31-44D8-BE4F-51ED969C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4C7-6D1F-470B-97D3-42EEC518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A57-390A-41D9-BD2A-022002EB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483-71AB-472A-B943-963EFFA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CA0-826A-4BA2-A9A4-B3785C3A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089-2984-403E-BCF0-CCD933C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F04A-4960-47D6-8E1D-E175B672B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juntadeandalucia.es/averroes/iesgaviota/fisiqui/practicasq/node3.html" TargetMode="External"/><Relationship Id="rId3" Type="http://schemas.openxmlformats.org/officeDocument/2006/relationships/hyperlink" Target="http://www.juntadeandalucia.es/averroes/iesgaviota/fisiqui/practicasq/node3.html" TargetMode="External"/><Relationship Id="rId4" Type="http://schemas.openxmlformats.org/officeDocument/2006/relationships/hyperlink" Target="http://www.juntadeandalucia.es/averroes/iesgaviota/fisiqui/practicasq/node3.html" TargetMode="External"/><Relationship Id="rId5" Type="http://schemas.openxmlformats.org/officeDocument/2006/relationships/hyperlink" Target="http://www.juntadeandalucia.es/averroes/iesgaviota/fisiqui/practicasq/node3.html" TargetMode="External"/><Relationship Id="rId6" Type="http://schemas.openxmlformats.org/officeDocument/2006/relationships/hyperlink" Target="http://www.juntadeandalucia.es/averroes/iesgaviota/fisiqui/practicasq/node3.html" TargetMode="External"/><Relationship Id="rId7" Type="http://schemas.openxmlformats.org/officeDocument/2006/relationships/hyperlink" Target="http://www.juntadeandalucia.es/averroes/iesgaviota/fisiqui/practicasq/node3.html" TargetMode="External"/><Relationship Id="rId8" Type="http://schemas.openxmlformats.org/officeDocument/2006/relationships/hyperlink" Target="http://www.juntadeandalucia.es/averroes/iesgaviota/fisiqui/practicasq/node3.html" TargetMode="External"/><Relationship Id="rId9" Type="http://schemas.openxmlformats.org/officeDocument/2006/relationships/hyperlink" Target="http://www.juntadeandalucia.es/averroes/iesgaviota/fisiqui/practicasq/node3.html" TargetMode="External"/><Relationship Id="rId10" Type="http://schemas.openxmlformats.org/officeDocument/2006/relationships/hyperlink" Target="http://www.juntadeandalucia.es/averroes/iesgaviota/fisiqui/practicasq/node3.html" TargetMode="External"/><Relationship Id="rId11" Type="http://schemas.openxmlformats.org/officeDocument/2006/relationships/hyperlink" Target="http://www.juntadeandalucia.es/averroes/iesgaviota/fisiqui/practicasq/node3.html" TargetMode="External"/><Relationship Id="rId12" Type="http://schemas.openxmlformats.org/officeDocument/2006/relationships/hyperlink" Target="http://www.juntadeandalucia.es/averroes/iesgaviota/fisiqui/practicasq/node3.html" TargetMode="External"/><Relationship Id="rId13" Type="http://schemas.openxmlformats.org/officeDocument/2006/relationships/hyperlink" Target="http://www.juntadeandalucia.es/averroes/iesgaviota/fisiqui/practicasq/node3.html" TargetMode="External"/><Relationship Id="rId14" Type="http://schemas.openxmlformats.org/officeDocument/2006/relationships/hyperlink" Target="http://www.juntadeandalucia.es/averroes/iesgaviota/fisiqui/practicasq/node3.html" TargetMode="External"/><Relationship Id="rId15" Type="http://schemas.openxmlformats.org/officeDocument/2006/relationships/hyperlink" Target="http://www.juntadeandalucia.es/averroes/iesgaviota/fisiqui/practicasq/node3.html" TargetMode="External"/><Relationship Id="rId1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áginas Consultadas:     </a:t>
            </a:r>
            <a:r>
              <a:rPr b="1" lang="es-ES_tradnl" sz="3200" spc="-1" strike="noStrike">
                <a:solidFill>
                  <a:srgbClr val="9933ff"/>
                </a:solidFill>
                <a:latin typeface="Times New Roman"/>
              </a:rPr>
              <a:t>Técnica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écnica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ormas de seguridad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arrakis.es/~rfluengo/norma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Material de labora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monografias.com/trabajos34/instrumental-laboratorio/instrumental-laboratorio.s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Elaboración de inform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4"/>
              </a:rPr>
              <a:t>.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5"/>
              </a:rPr>
              <a:t>juntadeandalucia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6"/>
              </a:rPr>
              <a:t>.es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7"/>
              </a:rPr>
              <a:t>averroes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8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9"/>
              </a:rPr>
              <a:t>iesgaviota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0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1"/>
              </a:rPr>
              <a:t>fisiqui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2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3"/>
              </a:rPr>
              <a:t>practicasq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4"/>
              </a:rPr>
              <a:t>/node3.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5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Prácticas cas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http://www.iestiemposmodernos.com/diverciencia/las_pc/pc_menu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Prácticas con orde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sc.ehu.es/sbweb/fisica/default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9:40:38Z</dcterms:created>
  <dc:creator>Marianin</dc:creator>
  <dc:description/>
  <dc:language>en-US</dc:language>
  <cp:lastModifiedBy>Marianin</cp:lastModifiedBy>
  <dcterms:modified xsi:type="dcterms:W3CDTF">2008-11-23T12:22:33Z</dcterms:modified>
  <cp:revision>12</cp:revision>
  <dc:subject/>
  <dc:title>Presentación de PowerPoint</dc:title>
</cp:coreProperties>
</file>