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32D1-777C-4721-AF83-86ADA0022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5E2F-B53B-4B03-8773-CDCD1CE8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9AA0-64BC-4AA3-82BE-37CB63E54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E1EA-2885-4283-9B9A-BEDD1948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0A7E-574B-424E-A02D-8A4831E6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DACC-6F32-4456-BC4C-BE0B6413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434F-7177-442D-8DFA-6EE8227F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4A8C-E825-4A49-8807-23B07B4E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43CB-249A-4A4B-8801-80E71E29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C432-6D43-4CB2-9296-E6BD2721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FF0B-5FC6-448D-A4FC-92A361D3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0F2B-4A62-456C-8EFC-64CCF415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BE1E-FFAC-4AF8-B2D3-50608D0A8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juntadeandalucia.es/averroes/iesgaviota/fisiqui/practicasq/node3.html" TargetMode="External"/><Relationship Id="rId3" Type="http://schemas.openxmlformats.org/officeDocument/2006/relationships/hyperlink" Target="http://www.juntadeandalucia.es/averroes/iesgaviota/fisiqui/practicasq/node3.html" TargetMode="External"/><Relationship Id="rId4" Type="http://schemas.openxmlformats.org/officeDocument/2006/relationships/hyperlink" Target="http://www.juntadeandalucia.es/averroes/iesgaviota/fisiqui/practicasq/node3.html" TargetMode="External"/><Relationship Id="rId5" Type="http://schemas.openxmlformats.org/officeDocument/2006/relationships/hyperlink" Target="http://www.juntadeandalucia.es/averroes/iesgaviota/fisiqui/practicasq/node3.html" TargetMode="External"/><Relationship Id="rId6" Type="http://schemas.openxmlformats.org/officeDocument/2006/relationships/hyperlink" Target="http://www.juntadeandalucia.es/averroes/iesgaviota/fisiqui/practicasq/node3.html" TargetMode="External"/><Relationship Id="rId7" Type="http://schemas.openxmlformats.org/officeDocument/2006/relationships/hyperlink" Target="http://www.juntadeandalucia.es/averroes/iesgaviota/fisiqui/practicasq/node3.html" TargetMode="External"/><Relationship Id="rId8" Type="http://schemas.openxmlformats.org/officeDocument/2006/relationships/hyperlink" Target="http://www.juntadeandalucia.es/averroes/iesgaviota/fisiqui/practicasq/node3.html" TargetMode="External"/><Relationship Id="rId9" Type="http://schemas.openxmlformats.org/officeDocument/2006/relationships/hyperlink" Target="http://www.juntadeandalucia.es/averroes/iesgaviota/fisiqui/practicasq/node3.html" TargetMode="External"/><Relationship Id="rId10" Type="http://schemas.openxmlformats.org/officeDocument/2006/relationships/hyperlink" Target="http://www.juntadeandalucia.es/averroes/iesgaviota/fisiqui/practicasq/node3.html" TargetMode="External"/><Relationship Id="rId11" Type="http://schemas.openxmlformats.org/officeDocument/2006/relationships/hyperlink" Target="http://www.juntadeandalucia.es/averroes/iesgaviota/fisiqui/practicasq/node3.html" TargetMode="External"/><Relationship Id="rId12" Type="http://schemas.openxmlformats.org/officeDocument/2006/relationships/hyperlink" Target="http://www.juntadeandalucia.es/averroes/iesgaviota/fisiqui/practicasq/node3.html" TargetMode="External"/><Relationship Id="rId13" Type="http://schemas.openxmlformats.org/officeDocument/2006/relationships/hyperlink" Target="http://www.juntadeandalucia.es/averroes/iesgaviota/fisiqui/practicasq/node3.html" TargetMode="External"/><Relationship Id="rId14" Type="http://schemas.openxmlformats.org/officeDocument/2006/relationships/hyperlink" Target="http://www.juntadeandalucia.es/averroes/iesgaviota/fisiqui/practicasq/node3.html" TargetMode="External"/><Relationship Id="rId15" Type="http://schemas.openxmlformats.org/officeDocument/2006/relationships/hyperlink" Target="http://www.juntadeandalucia.es/averroes/iesgaviota/fisiqui/practicasq/node3.html" TargetMode="External"/><Relationship Id="rId1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Páginas Consultadas:     </a:t>
            </a:r>
            <a:r>
              <a:rPr b="1" lang="es-ES_tradnl" sz="3200" spc="-1" strike="noStrike">
                <a:solidFill>
                  <a:srgbClr val="9933ff"/>
                </a:solidFill>
                <a:latin typeface="Times New Roman"/>
              </a:rPr>
              <a:t>Técnicas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écnica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1219320"/>
            <a:ext cx="80010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Normas de seguridad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http://www.arrakis.es/~rfluengo/normas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Material de labora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http://www.monografias.com/trabajos34/instrumental-laboratorio/instrumental-laboratorio.s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Elaboración de inform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3"/>
              </a:rPr>
              <a:t>www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4"/>
              </a:rPr>
              <a:t>.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5"/>
              </a:rPr>
              <a:t>juntadeandalucia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6"/>
              </a:rPr>
              <a:t>.es/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7"/>
              </a:rPr>
              <a:t>averroes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8"/>
              </a:rPr>
              <a:t>/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9"/>
              </a:rPr>
              <a:t>iesgaviota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10"/>
              </a:rPr>
              <a:t>/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11"/>
              </a:rPr>
              <a:t>fisiqui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12"/>
              </a:rPr>
              <a:t>/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13"/>
              </a:rPr>
              <a:t>practicasq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14"/>
              </a:rPr>
              <a:t>/node3.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15"/>
              </a:rPr>
              <a:t>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Prácticas case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http://www.iestiemposmodernos.com/diverciencia/las_pc/pc_menu.h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Prácticas con orde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http://www.sc.ehu.es/sbweb/fisica/default.h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7T19:40:38Z</dcterms:created>
  <dc:creator>Marianin</dc:creator>
  <dc:description/>
  <dc:language>en-US</dc:language>
  <cp:lastModifiedBy>Marianin</cp:lastModifiedBy>
  <dcterms:modified xsi:type="dcterms:W3CDTF">2008-11-23T12:22:33Z</dcterms:modified>
  <cp:revision>12</cp:revision>
  <dc:subject/>
  <dc:title>Presentación de PowerPoint</dc:title>
</cp:coreProperties>
</file>