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403D-186E-4011-8D49-65412C90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96CB-3802-40BA-8694-8C062F2F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FDD8-A7D2-48E0-95AB-A9C727B2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A6A2-88BF-4E28-A1F7-14D80375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4AFB-3016-466F-A9DD-806F76B7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3895-7189-448B-8C8B-24DA214A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8B7A-D186-4D1B-8B74-2BE7487C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C6BC-B355-4071-A64A-247CAB90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CC6C-B670-46E7-A57F-A55F4C32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1314-212A-4427-9D56-EEA454B3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A842-163F-425A-8ED5-943733A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ABEA-FFF9-4AE6-8D3A-74203749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DB72-B3A7-4992-ABFE-D07EF565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DADE-9A7D-4AD8-97AB-9D77A952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EB2B-29CB-4B45-9BAE-611404F4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9BCE-9CAE-4C94-8091-76BD6F9B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3D62-2CE9-4743-9484-CB8A9BBC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A87B-D4E1-48F9-B280-E10D8B6C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0956-65EF-4197-8572-DD71851D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7424-1A98-432A-AB60-28258419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9866-1F88-4F5B-98C2-996EC555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8D7E-0BF6-4E48-A618-458AAB3C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6EC5-D3ED-4039-811F-C1305C24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39DB-15E0-401D-8C2E-5682AD5D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8D8A-F991-4846-9FD8-526E5E60ADD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2AAD-D139-4B1C-B178-E1B9C668020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image" Target="../media/image2.jpeg"/><Relationship Id="rId5" Type="http://schemas.openxmlformats.org/officeDocument/2006/relationships/slide" Target="slide6.xml"/><Relationship Id="rId6" Type="http://schemas.openxmlformats.org/officeDocument/2006/relationships/image" Target="../media/image3.jpeg"/><Relationship Id="rId7" Type="http://schemas.openxmlformats.org/officeDocument/2006/relationships/slide" Target="slide2.xml"/><Relationship Id="rId8" Type="http://schemas.openxmlformats.org/officeDocument/2006/relationships/image" Target="../media/image4.jpeg"/><Relationship Id="rId9" Type="http://schemas.openxmlformats.org/officeDocument/2006/relationships/slide" Target="slide9.xml"/><Relationship Id="rId10" Type="http://schemas.openxmlformats.org/officeDocument/2006/relationships/image" Target="../media/image5.jpeg"/><Relationship Id="rId11" Type="http://schemas.openxmlformats.org/officeDocument/2006/relationships/slide" Target="slide8.xm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1.jpe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CHARLES CHAPL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magen 1" descr="http://www.biografiasyvidas.com/monografia/chaplin/fotos/chaplin_teatro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661000"/>
            <a:ext cx="1222200" cy="915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5080" y="48466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n 2" descr="http://www.biografiasyvidas.com/monografia/chaplin/fotos/chaplin_elcirco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5589720"/>
            <a:ext cx="1224000" cy="87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95240" y="592596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MIENZ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N HOLLYW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3" descr="http://www.biografiasyvidas.com/monografia/chaplin/fotos/chaplin_oona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2720" y="4581360"/>
            <a:ext cx="1224000" cy="771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294520" y="48466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4520" y="573408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atria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Ve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9640" y="4508640"/>
            <a:ext cx="685800" cy="836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69800" y="484668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877080" y="5764320"/>
            <a:ext cx="69048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87240" y="5805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888240" y="4724280"/>
            <a:ext cx="6746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461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arles Chaplin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(1889-19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Nació el 16 de abril de 1889, en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alworth (Londre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padres eran cantantes y actores de variedades de origen jud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eció en el barrio de Kensington, rodeado de muchos actores de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music-hal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uedó al cuidado de su madre cuando el matrimonio se separó, poco después de su naci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u padre murió cuando tenía 12 años, y éste (junto con su hermano Sidney) pasó largos períodos de tiempo en orfana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 unió a los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Eight Lancashire Lad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n grupo de actores juveniles aficionados que hacían giras por los pueb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 1901, con doce años, representó el rol de protagonista e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Jim, the Romance of a Cockne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 cuatro años más tarde realizó una gira con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The Painful Predicament of Sherlock Holm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3132000" y="6259680"/>
            <a:ext cx="331164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1" descr="http://www.biografiasyvidas.com/monografia/chaplin/fotos/chaplin_teatro.jpg"/>
          <p:cNvPicPr/>
          <p:nvPr/>
        </p:nvPicPr>
        <p:blipFill>
          <a:blip r:embed="rId4"/>
          <a:stretch/>
        </p:blipFill>
        <p:spPr>
          <a:xfrm>
            <a:off x="5148360" y="198900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3520" y="4507560"/>
            <a:ext cx="289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lin e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 Night in th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Charlot en el teatro)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19 años vivió su primero romance, al enamorarse de la joven actriz Hetty Ke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d Karno le ayudo a perfeccionar sus recursos mí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de febrero de 1914, estrena su primera película, Making a Living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Ganándos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5, la productora Essanay lo contrata por 1.500 dólares a la se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 la Essanay, Chaplin pasó a escribir y dirigir los catorce films que rodó en 19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Charlot se lo daría en 1915 el distribuidor de sus filmes en F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18 la First National contrató a Charlie Chaplin por la cifra récord de un millón de dólares an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700360" y="6237360"/>
            <a:ext cx="4321080" cy="498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386480" y="55198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3794"/>
                </a:moveTo>
                <a:lnTo>
                  <a:pt x="17957" y="10800"/>
                </a:lnTo>
                <a:lnTo>
                  <a:pt x="394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19 Chaplin, Pickford y Fairbanks, junto al director David W. Griffith, constituyen la productora United Art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3, con productora propia, sólida fortuna personal y una suntuosa mansión en Beverly Hills, se sintió al fin con las manos libres para desarrollar sin ataduras su crea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e año dirigió, sin actuar, la excelent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A Woman of Pari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con su admirada Edna y Adolphe Menj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5 rued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he Gold Rus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La quimera del oro), de la que en 1942 realizó una versión sonora narrada por su voz y con música propia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8028000" y="572940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6877080" y="5734080"/>
            <a:ext cx="366840" cy="361800"/>
          </a:xfrm>
          <a:custGeom>
            <a:avLst/>
            <a:gdLst>
              <a:gd name="textAreaLeft" fmla="*/ 23400 w 366840"/>
              <a:gd name="textAreaRight" fmla="*/ 343440 w 36684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901" h="21600">
                <a:moveTo>
                  <a:pt x="0" y="0"/>
                </a:moveTo>
                <a:lnTo>
                  <a:pt x="21901" y="0"/>
                </a:lnTo>
                <a:lnTo>
                  <a:pt x="21901" y="21600"/>
                </a:lnTo>
                <a:lnTo>
                  <a:pt x="0" y="21600"/>
                </a:lnTo>
                <a:close/>
              </a:path>
              <a:path fill="lightenLess" w="21901" h="21600">
                <a:moveTo>
                  <a:pt x="0" y="0"/>
                </a:moveTo>
                <a:lnTo>
                  <a:pt x="21901" y="0"/>
                </a:lnTo>
                <a:lnTo>
                  <a:pt x="20501" y="1400"/>
                </a:lnTo>
                <a:lnTo>
                  <a:pt x="1400" y="1400"/>
                </a:lnTo>
                <a:close/>
              </a:path>
              <a:path fill="darken" w="21901" h="21600">
                <a:moveTo>
                  <a:pt x="21901" y="0"/>
                </a:moveTo>
                <a:lnTo>
                  <a:pt x="21901" y="21600"/>
                </a:lnTo>
                <a:lnTo>
                  <a:pt x="20501" y="20200"/>
                </a:lnTo>
                <a:lnTo>
                  <a:pt x="20501" y="1400"/>
                </a:lnTo>
                <a:close/>
              </a:path>
              <a:path fill="darkenLess" w="21901" h="21600">
                <a:moveTo>
                  <a:pt x="21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01" y="20200"/>
                </a:lnTo>
                <a:close/>
              </a:path>
              <a:path fill="lighten" w="21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01" h="21600">
                <a:moveTo>
                  <a:pt x="3944" y="10800"/>
                </a:moveTo>
                <a:lnTo>
                  <a:pt x="17957" y="3794"/>
                </a:lnTo>
                <a:lnTo>
                  <a:pt x="17957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7243920" y="573732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3794"/>
                </a:moveTo>
                <a:lnTo>
                  <a:pt x="17946" y="10800"/>
                </a:lnTo>
                <a:lnTo>
                  <a:pt x="393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os comienzos en Hol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7, estrenó la primera película sonor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cantor de jazz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con Al Jo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28 realiz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The circu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l circo), película que él mismo consideraba menos lograda que las que integraban la trilogía, pese a ser un magnífico filme cómico. (recibió su primer Oscar de la Academia en 192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s años más tarde estrenó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ity Light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Luces de la ciudad), paradigma de la ternura y la desolación de su alter ego cinematográfico, con inclusión de escenas sonoras y música de Chap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32 realizó un nuevo y extenso viaje a Europa, donde en una recepción conoció a la actriz francesa Paulette Godd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020000" y="5516640"/>
            <a:ext cx="366480" cy="361800"/>
          </a:xfrm>
          <a:custGeom>
            <a:avLst/>
            <a:gdLst>
              <a:gd name="textAreaLeft" fmla="*/ 23400 w 366480"/>
              <a:gd name="textAreaRight" fmla="*/ 343080 w 366480"/>
              <a:gd name="textAreaTop" fmla="*/ 23400 h 361800"/>
              <a:gd name="textAreaBottom" fmla="*/ 338400 h 361800"/>
            </a:gdLst>
            <a:ahLst/>
            <a:rect l="textAreaLeft" t="textAreaTop" r="textAreaRight" b="textAreaBottom"/>
            <a:pathLst>
              <a:path w="21879" h="21600">
                <a:moveTo>
                  <a:pt x="0" y="0"/>
                </a:moveTo>
                <a:lnTo>
                  <a:pt x="21879" y="0"/>
                </a:lnTo>
                <a:lnTo>
                  <a:pt x="21879" y="21600"/>
                </a:lnTo>
                <a:lnTo>
                  <a:pt x="0" y="21600"/>
                </a:lnTo>
                <a:close/>
              </a:path>
              <a:path fill="lightenLess" w="21879" h="21600">
                <a:moveTo>
                  <a:pt x="0" y="0"/>
                </a:moveTo>
                <a:lnTo>
                  <a:pt x="21879" y="0"/>
                </a:lnTo>
                <a:lnTo>
                  <a:pt x="20479" y="1400"/>
                </a:lnTo>
                <a:lnTo>
                  <a:pt x="1400" y="1400"/>
                </a:lnTo>
                <a:close/>
              </a:path>
              <a:path fill="darken" w="21879" h="21600">
                <a:moveTo>
                  <a:pt x="21879" y="0"/>
                </a:moveTo>
                <a:lnTo>
                  <a:pt x="21879" y="21600"/>
                </a:lnTo>
                <a:lnTo>
                  <a:pt x="20479" y="20200"/>
                </a:lnTo>
                <a:lnTo>
                  <a:pt x="20479" y="1400"/>
                </a:lnTo>
                <a:close/>
              </a:path>
              <a:path fill="darkenLess" w="21879" h="21600">
                <a:moveTo>
                  <a:pt x="21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79" y="20200"/>
                </a:lnTo>
                <a:close/>
              </a:path>
              <a:path fill="lighten" w="21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79" h="21600">
                <a:moveTo>
                  <a:pt x="3933" y="10800"/>
                </a:moveTo>
                <a:lnTo>
                  <a:pt x="17946" y="3794"/>
                </a:lnTo>
                <a:lnTo>
                  <a:pt x="1794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m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matrimonio con la actriz de 19 años Mildred Harris, celebrado el 23 de octubre, duraría hasta 1920 y el divorcio le costó a Charles 200.000 de sus preciosos dó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24 de noviembre de 1924 con 35 años, contrajo matrimonio en México con la jovencísima actriz Lolita McMurray (o Lita Grey), de 16  años. La unión duró hasta 1927 y Chaplin obtuvo de ella sus dos primeros hijos (Charles Spencer y Sydney Earle) y pagó un millón de dólares al divorciarse de su Lol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los 54 años se casa con Oona joven de 18 años e  hija del insigne dramaturgo Eugene O'Neill, y con la que permanecería a su lado el resto de su v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n 3" descr="http://www.biografiasyvidas.com/monografia/chaplin/fotos/chaplin_oona.jpg"/>
          <p:cNvPicPr/>
          <p:nvPr/>
        </p:nvPicPr>
        <p:blipFill>
          <a:blip r:embed="rId4"/>
          <a:stretch/>
        </p:blipFill>
        <p:spPr>
          <a:xfrm>
            <a:off x="5076720" y="2349360"/>
            <a:ext cx="32385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patriarca de Veve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 roda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1947, cayó bajo la ola del maccarthismo que tenía como blanco a intelectuales y artistas de Hollyw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52 rod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ondres Limeligh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Candilejas), magnífica y sentimental rememoración de sus días de cómico ambulante, y dos años más tarde recibió el Premio Internacional de la Pa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resentimiento contra Estados Unidos se reflejó e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 King in New Yor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Un rey en Nueva York), filme de 1957 cuyos altibajos no ocultan el corrosivo humor chaplin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los 78 años fue padre de su octavo hijo con Oona, Christopher, nacido en 19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964 se publicó en Londres su autobiografía,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Historia de mi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1972 retorno a Hollywood, para recibir un Oscar por la totalidad de su obr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5544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028000" y="565776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28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su versatilidad al producir, escribir, dirigir y actuar en su pelícu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l circo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1 Óscar Honorífico «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or el incalculable efecto que ha producido en el arte del siglo XX: el cin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972 Óscar a la mejor música original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junto a Ray Rass y Larry Russe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AFTA. 1977 Premio Espe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stival de Venecia. 1972 León de Oro por toda su carr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 la Crítica de Cine de Nueva York. 1940 Mejor Actor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5 Mejor Película Artístic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Una mujer de Parí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27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La quimera del or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53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Kinema Junpo. 1961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Jussi. 1974 Mejor Cineasta Extranjero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iempos modern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El gran dictad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49 Mejor Película American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Monsieur Verdou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Bodil. 1959 Premio Honora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s del Círculo de Escritores de España. 1956 Mejor Película Extranjera por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ndilej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28000" y="5950080"/>
            <a:ext cx="361800" cy="36324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240"/>
              <a:gd name="textAreaBottom" fmla="*/ 339840 h 363240"/>
            </a:gdLst>
            <a:ahLst/>
            <a:rect l="textAreaLeft" t="textAreaTop" r="textAreaRight" b="textAreaBottom"/>
            <a:pathLst>
              <a:path w="21600" h="21686">
                <a:moveTo>
                  <a:pt x="0" y="0"/>
                </a:moveTo>
                <a:lnTo>
                  <a:pt x="21600" y="0"/>
                </a:lnTo>
                <a:lnTo>
                  <a:pt x="21600" y="21686"/>
                </a:lnTo>
                <a:lnTo>
                  <a:pt x="0" y="21686"/>
                </a:lnTo>
                <a:close/>
              </a:path>
              <a:path fill="lightenLess" w="21600" h="216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6">
                <a:moveTo>
                  <a:pt x="21600" y="0"/>
                </a:moveTo>
                <a:lnTo>
                  <a:pt x="21600" y="21686"/>
                </a:lnTo>
                <a:lnTo>
                  <a:pt x="20200" y="20286"/>
                </a:lnTo>
                <a:lnTo>
                  <a:pt x="20200" y="1400"/>
                </a:lnTo>
                <a:close/>
              </a:path>
              <a:path fill="darkenLess" w="21600" h="21686">
                <a:moveTo>
                  <a:pt x="21600" y="21686"/>
                </a:moveTo>
                <a:lnTo>
                  <a:pt x="0" y="21686"/>
                </a:lnTo>
                <a:lnTo>
                  <a:pt x="1400" y="20286"/>
                </a:lnTo>
                <a:lnTo>
                  <a:pt x="20200" y="20286"/>
                </a:lnTo>
                <a:close/>
              </a:path>
              <a:path fill="lighten" w="21600" h="21686">
                <a:moveTo>
                  <a:pt x="0" y="216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6"/>
                </a:lnTo>
                <a:close/>
              </a:path>
              <a:path fill="darken" w="21600" h="21686">
                <a:moveTo>
                  <a:pt x="3794" y="7536"/>
                </a:moveTo>
                <a:lnTo>
                  <a:pt x="7301" y="7536"/>
                </a:lnTo>
                <a:lnTo>
                  <a:pt x="7301" y="12871"/>
                </a:lnTo>
                <a:cubicBezTo>
                  <a:pt x="7301" y="13793"/>
                  <a:pt x="8102" y="14525"/>
                  <a:pt x="9138" y="14525"/>
                </a:cubicBezTo>
                <a:lnTo>
                  <a:pt x="10800" y="14525"/>
                </a:lnTo>
                <a:cubicBezTo>
                  <a:pt x="11836" y="14525"/>
                  <a:pt x="12636" y="13793"/>
                  <a:pt x="12636" y="12871"/>
                </a:cubicBezTo>
                <a:lnTo>
                  <a:pt x="12636" y="7536"/>
                </a:lnTo>
                <a:lnTo>
                  <a:pt x="10800" y="7536"/>
                </a:lnTo>
                <a:lnTo>
                  <a:pt x="14308" y="4028"/>
                </a:lnTo>
                <a:lnTo>
                  <a:pt x="17981" y="7536"/>
                </a:lnTo>
                <a:lnTo>
                  <a:pt x="16144" y="7536"/>
                </a:lnTo>
                <a:lnTo>
                  <a:pt x="16144" y="12871"/>
                </a:lnTo>
                <a:cubicBezTo>
                  <a:pt x="16144" y="15639"/>
                  <a:pt x="13568" y="18198"/>
                  <a:pt x="10800" y="18198"/>
                </a:cubicBezTo>
                <a:lnTo>
                  <a:pt x="9138" y="18198"/>
                </a:lnTo>
                <a:cubicBezTo>
                  <a:pt x="6370" y="18198"/>
                  <a:pt x="3794" y="15639"/>
                  <a:pt x="3794" y="12871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rió a los ochenta y ocho años, el 25 de diciembre de 1977. Dejaba un total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79 películas filmadas en más de cincuenta años de actividad como actor y direct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Carme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1916), según la novela de Merimé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Vagabond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vagabundo), 1916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A Day's Pleasu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Un día de juerga), 19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ay Day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Día de paga), 1922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The Pilgri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El peregrino), 1923, entre las más apreciadas por la crítica y celebradas por el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35640" y="2916360"/>
            <a:ext cx="2070000" cy="169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9740" t="-887" r="16394" b="96413"/>
          <a:stretch/>
        </p:blipFill>
        <p:spPr>
          <a:xfrm>
            <a:off x="2771640" y="66600"/>
            <a:ext cx="4104000" cy="39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591" t="94255" r="19967" b="150"/>
          <a:stretch/>
        </p:blipFill>
        <p:spPr>
          <a:xfrm>
            <a:off x="2556000" y="6359400"/>
            <a:ext cx="4321080" cy="498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8435880" y="6168960"/>
            <a:ext cx="684360" cy="655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028000" y="5516640"/>
            <a:ext cx="361800" cy="363600"/>
          </a:xfrm>
          <a:custGeom>
            <a:avLst/>
            <a:gdLst>
              <a:gd name="textAreaLeft" fmla="*/ 23400 w 361800"/>
              <a:gd name="textAreaRight" fmla="*/ 338400 w 3618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1600" h="21707">
                <a:moveTo>
                  <a:pt x="0" y="0"/>
                </a:moveTo>
                <a:lnTo>
                  <a:pt x="21600" y="0"/>
                </a:lnTo>
                <a:lnTo>
                  <a:pt x="21600" y="21707"/>
                </a:lnTo>
                <a:lnTo>
                  <a:pt x="0" y="21707"/>
                </a:lnTo>
                <a:close/>
              </a:path>
              <a:path fill="lightenLess" w="21600" h="21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7">
                <a:moveTo>
                  <a:pt x="21600" y="0"/>
                </a:moveTo>
                <a:lnTo>
                  <a:pt x="21600" y="21707"/>
                </a:lnTo>
                <a:lnTo>
                  <a:pt x="20200" y="20307"/>
                </a:lnTo>
                <a:lnTo>
                  <a:pt x="20200" y="1400"/>
                </a:lnTo>
                <a:close/>
              </a:path>
              <a:path fill="darkenLess" w="21600" h="21707">
                <a:moveTo>
                  <a:pt x="21600" y="21707"/>
                </a:moveTo>
                <a:lnTo>
                  <a:pt x="0" y="21707"/>
                </a:lnTo>
                <a:lnTo>
                  <a:pt x="1400" y="20307"/>
                </a:lnTo>
                <a:lnTo>
                  <a:pt x="20200" y="20307"/>
                </a:lnTo>
                <a:close/>
              </a:path>
              <a:path fill="lighten" w="21600" h="21707">
                <a:moveTo>
                  <a:pt x="0" y="21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7"/>
                </a:lnTo>
                <a:close/>
              </a:path>
              <a:path fill="darken" w="21600" h="21707">
                <a:moveTo>
                  <a:pt x="3794" y="7546"/>
                </a:moveTo>
                <a:lnTo>
                  <a:pt x="7301" y="7546"/>
                </a:lnTo>
                <a:lnTo>
                  <a:pt x="7301" y="12882"/>
                </a:lnTo>
                <a:cubicBezTo>
                  <a:pt x="7301" y="13804"/>
                  <a:pt x="8102" y="14535"/>
                  <a:pt x="9138" y="14535"/>
                </a:cubicBezTo>
                <a:lnTo>
                  <a:pt x="10800" y="14535"/>
                </a:lnTo>
                <a:cubicBezTo>
                  <a:pt x="11836" y="14535"/>
                  <a:pt x="12636" y="13804"/>
                  <a:pt x="12636" y="12882"/>
                </a:cubicBezTo>
                <a:lnTo>
                  <a:pt x="12636" y="7546"/>
                </a:lnTo>
                <a:lnTo>
                  <a:pt x="10800" y="7546"/>
                </a:lnTo>
                <a:lnTo>
                  <a:pt x="14308" y="4039"/>
                </a:lnTo>
                <a:lnTo>
                  <a:pt x="17981" y="7546"/>
                </a:lnTo>
                <a:lnTo>
                  <a:pt x="16144" y="7546"/>
                </a:lnTo>
                <a:lnTo>
                  <a:pt x="16144" y="12882"/>
                </a:lnTo>
                <a:cubicBezTo>
                  <a:pt x="16144" y="15649"/>
                  <a:pt x="13568" y="18208"/>
                  <a:pt x="10800" y="18208"/>
                </a:cubicBezTo>
                <a:lnTo>
                  <a:pt x="9138" y="18208"/>
                </a:lnTo>
                <a:cubicBezTo>
                  <a:pt x="6370" y="18208"/>
                  <a:pt x="3794" y="15649"/>
                  <a:pt x="3794" y="12882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48360" y="4653000"/>
            <a:ext cx="280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900" spc="-1" strike="noStrike">
                <a:solidFill>
                  <a:srgbClr val="000000"/>
                </a:solidFill>
                <a:latin typeface="Arial"/>
              </a:rPr>
              <a:t>Haga click sobre la imagen para reproducir el vide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uente:  www.biografiasyvidas.com Adaptación: educarecuado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20:13:43Z</dcterms:created>
  <dc:creator>juan.ruiz</dc:creator>
  <dc:description/>
  <dc:language>en-US</dc:language>
  <cp:lastModifiedBy>Ana </cp:lastModifiedBy>
  <dcterms:modified xsi:type="dcterms:W3CDTF">2010-02-01T19:19:44Z</dcterms:modified>
  <cp:revision>23</cp:revision>
  <dc:subject/>
  <dc:title>Charles Chaplin (1889-1977)</dc:title>
</cp:coreProperties>
</file>