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CC492-96AC-4BC1-8846-82A706CC4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7E5A7-757A-44F8-AF84-99FEC681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1C838-63BE-4977-90B7-09197C60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2E588-4531-40D7-BBB2-AE498E8F9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15DD-E4E8-4461-AEEA-590FA17BE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6486-A21F-4C67-B0D1-F36B445C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922D-7F62-4CDE-B35B-2EA74E0D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CF95-13FE-4D61-9EE0-59B43D16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0276-2B66-47A1-A5AE-BCDBC778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D99A-ACCF-4A2C-B49B-F0145E22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3F25-7EEF-4E51-952A-347764ED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661E5-9170-4C77-88C7-C070B4E1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91C7-1A5B-4696-B67F-619D0E58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8963-D057-4053-876F-7BE64D0B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D0B2-6651-499A-8660-16394FFB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2ACE-60FD-4240-87F7-3D033C72D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B7F3-8901-4C71-A8FC-2833A7BC4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27277-7862-4510-BB1E-0BB805A2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75EDD-F603-4902-806C-69C957CF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15ABD-F911-4C7C-826C-6AB3FBA4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EBADD-3189-452A-A7C2-F38F9622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53EE0-5279-430A-9AA0-77071696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B684C-A8BD-442C-AEAB-5C387E84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8590B-A338-4CFD-B128-90F239CB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D2F0-FD9D-4503-AB00-BAB5B0D32AE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1FED-9E7C-4B69-A8D6-77936BA886D3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jpeg"/><Relationship Id="rId3" Type="http://schemas.openxmlformats.org/officeDocument/2006/relationships/slide" Target="slide7.xml"/><Relationship Id="rId4" Type="http://schemas.openxmlformats.org/officeDocument/2006/relationships/image" Target="../media/image2.jpeg"/><Relationship Id="rId5" Type="http://schemas.openxmlformats.org/officeDocument/2006/relationships/slide" Target="slide6.xml"/><Relationship Id="rId6" Type="http://schemas.openxmlformats.org/officeDocument/2006/relationships/image" Target="../media/image3.jpeg"/><Relationship Id="rId7" Type="http://schemas.openxmlformats.org/officeDocument/2006/relationships/slide" Target="slide2.xml"/><Relationship Id="rId8" Type="http://schemas.openxmlformats.org/officeDocument/2006/relationships/image" Target="../media/image4.jpeg"/><Relationship Id="rId9" Type="http://schemas.openxmlformats.org/officeDocument/2006/relationships/slide" Target="slide9.xml"/><Relationship Id="rId10" Type="http://schemas.openxmlformats.org/officeDocument/2006/relationships/image" Target="../media/image5.jpeg"/><Relationship Id="rId11" Type="http://schemas.openxmlformats.org/officeDocument/2006/relationships/slide" Target="slide8.xml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1.jpe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ffffff"/>
                </a:solidFill>
                <a:latin typeface="Arial"/>
              </a:rPr>
              <a:t>CHARLES CHAPLI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Imagen 1" descr="http://www.biografiasyvidas.com/monografia/chaplin/fotos/chaplin_teatro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00" y="5661000"/>
            <a:ext cx="1222200" cy="915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65080" y="48466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V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magen 2" descr="http://www.biografiasyvidas.com/monografia/chaplin/fotos/chaplin_elcirco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51280" y="5589720"/>
            <a:ext cx="1224000" cy="871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695240" y="5925960"/>
            <a:ext cx="170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OMIENZ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N HOLLYW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Imagen 3" descr="http://www.biografiasyvidas.com/monografia/chaplin/fotos/chaplin_oona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52720" y="4581360"/>
            <a:ext cx="1224000" cy="771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294520" y="484668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M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94520" y="5734080"/>
            <a:ext cx="14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patriar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Ve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39640" y="4508640"/>
            <a:ext cx="685800" cy="836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669800" y="484668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REM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877080" y="5764320"/>
            <a:ext cx="690480" cy="689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887240" y="580536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6888240" y="4724280"/>
            <a:ext cx="674640" cy="8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0461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harles Chaplin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(1889-197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Nació el 16 de abril de 1889, en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alworth (Londres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os padres eran cantantes y actores de variedades de origen judí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ció en el barrio de Kensington, rodeado de muchos actores de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music-hall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Quedó al cuidado de su madre cuando el matrimonio se separó, poco después de su nacimi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u padre murió cuando tenía 12 años, y éste (junto con su hermano Sidney) pasó largos períodos de tiempo en orfana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e unió a los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Eight Lancashire Lad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n grupo de actores juveniles aficionados que hacían giras por los puebl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n 1901, con doce años, representó el rol de protagonista en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Jim, the Romance of a Cockney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, y cuatro años más tarde realizó una gira con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The Painful Predicament of Sherlock Holme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9740" t="-887" r="16394" b="96413"/>
          <a:stretch/>
        </p:blipFill>
        <p:spPr>
          <a:xfrm>
            <a:off x="2771640" y="5544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rcRect l="2591" t="94255" r="19967" b="150"/>
          <a:stretch/>
        </p:blipFill>
        <p:spPr>
          <a:xfrm>
            <a:off x="3132000" y="6259680"/>
            <a:ext cx="3311640" cy="380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pic>
        <p:nvPicPr>
          <p:cNvPr id="124" name="Imagen 1" descr="http://www.biografiasyvidas.com/monografia/chaplin/fotos/chaplin_teatro.jpg"/>
          <p:cNvPicPr/>
          <p:nvPr/>
        </p:nvPicPr>
        <p:blipFill>
          <a:blip r:embed="rId4"/>
          <a:stretch/>
        </p:blipFill>
        <p:spPr>
          <a:xfrm>
            <a:off x="5148360" y="1989000"/>
            <a:ext cx="3238560" cy="2428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3520" y="4507560"/>
            <a:ext cx="289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lin en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 Night in the Show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(Charlot en el teatro)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5" action="ppaction://hlinksldjump"/>
          </p:cNvPr>
          <p:cNvSpPr/>
          <p:nvPr/>
        </p:nvSpPr>
        <p:spPr>
          <a:xfrm>
            <a:off x="8028000" y="5516640"/>
            <a:ext cx="361800" cy="36360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1600" h="21707">
                <a:moveTo>
                  <a:pt x="0" y="0"/>
                </a:moveTo>
                <a:lnTo>
                  <a:pt x="21600" y="0"/>
                </a:lnTo>
                <a:lnTo>
                  <a:pt x="21600" y="21707"/>
                </a:lnTo>
                <a:lnTo>
                  <a:pt x="0" y="21707"/>
                </a:lnTo>
                <a:close/>
              </a:path>
              <a:path fill="lightenLess" w="21600" h="21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7">
                <a:moveTo>
                  <a:pt x="21600" y="0"/>
                </a:moveTo>
                <a:lnTo>
                  <a:pt x="21600" y="21707"/>
                </a:lnTo>
                <a:lnTo>
                  <a:pt x="20200" y="20307"/>
                </a:lnTo>
                <a:lnTo>
                  <a:pt x="20200" y="1400"/>
                </a:lnTo>
                <a:close/>
              </a:path>
              <a:path fill="darkenLess" w="21600" h="21707">
                <a:moveTo>
                  <a:pt x="21600" y="21707"/>
                </a:moveTo>
                <a:lnTo>
                  <a:pt x="0" y="21707"/>
                </a:lnTo>
                <a:lnTo>
                  <a:pt x="1400" y="20307"/>
                </a:lnTo>
                <a:lnTo>
                  <a:pt x="20200" y="20307"/>
                </a:lnTo>
                <a:close/>
              </a:path>
              <a:path fill="lighten" w="21600" h="21707">
                <a:moveTo>
                  <a:pt x="0" y="21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7"/>
                </a:lnTo>
                <a:close/>
              </a:path>
              <a:path fill="darken" w="21600" h="21707">
                <a:moveTo>
                  <a:pt x="3794" y="7546"/>
                </a:moveTo>
                <a:lnTo>
                  <a:pt x="7301" y="7546"/>
                </a:lnTo>
                <a:lnTo>
                  <a:pt x="7301" y="12882"/>
                </a:lnTo>
                <a:cubicBezTo>
                  <a:pt x="7301" y="13804"/>
                  <a:pt x="8102" y="14535"/>
                  <a:pt x="9138" y="14535"/>
                </a:cubicBezTo>
                <a:lnTo>
                  <a:pt x="10800" y="14535"/>
                </a:lnTo>
                <a:cubicBezTo>
                  <a:pt x="11836" y="14535"/>
                  <a:pt x="12636" y="13804"/>
                  <a:pt x="12636" y="12882"/>
                </a:cubicBezTo>
                <a:lnTo>
                  <a:pt x="12636" y="7546"/>
                </a:lnTo>
                <a:lnTo>
                  <a:pt x="10800" y="7546"/>
                </a:lnTo>
                <a:lnTo>
                  <a:pt x="14308" y="4039"/>
                </a:lnTo>
                <a:lnTo>
                  <a:pt x="17981" y="7546"/>
                </a:lnTo>
                <a:lnTo>
                  <a:pt x="16144" y="7546"/>
                </a:lnTo>
                <a:lnTo>
                  <a:pt x="16144" y="12882"/>
                </a:lnTo>
                <a:cubicBezTo>
                  <a:pt x="16144" y="15649"/>
                  <a:pt x="13568" y="18208"/>
                  <a:pt x="10800" y="18208"/>
                </a:cubicBezTo>
                <a:lnTo>
                  <a:pt x="9138" y="18208"/>
                </a:lnTo>
                <a:cubicBezTo>
                  <a:pt x="6370" y="18208"/>
                  <a:pt x="3794" y="15649"/>
                  <a:pt x="3794" y="12882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Los comienzos en Hollyw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 19 años vivió su primero romance, al enamorarse de la joven actriz Hetty Kel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red Karno le ayudo a perfeccionar sus recursos mím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 de febrero de 1914, estrena su primera película, Making a Living (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Ganándose la vi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915, la productora Essanay lo contrata por 1.500 dólares a la sem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 la Essanay, Chaplin pasó a escribir y dirigir los catorce films que rodó en 19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nombre de Charlot se lo daría en 1915 el distribuidor de sus filmes en Fr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918 la First National contrató a Charlie Chaplin por la cifra récord de un millón de dólares anu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9740" t="-887" r="16394" b="96413"/>
          <a:stretch/>
        </p:blipFill>
        <p:spPr>
          <a:xfrm>
            <a:off x="2771640" y="5544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rcRect l="2591" t="94255" r="19967" b="150"/>
          <a:stretch/>
        </p:blipFill>
        <p:spPr>
          <a:xfrm>
            <a:off x="2700360" y="6237360"/>
            <a:ext cx="4321080" cy="498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rId4" action="ppaction://hlinksldjump"/>
          </p:cNvPr>
          <p:cNvSpPr/>
          <p:nvPr/>
        </p:nvSpPr>
        <p:spPr>
          <a:xfrm>
            <a:off x="8028000" y="5516640"/>
            <a:ext cx="361800" cy="36360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1600" h="21707">
                <a:moveTo>
                  <a:pt x="0" y="0"/>
                </a:moveTo>
                <a:lnTo>
                  <a:pt x="21600" y="0"/>
                </a:lnTo>
                <a:lnTo>
                  <a:pt x="21600" y="21707"/>
                </a:lnTo>
                <a:lnTo>
                  <a:pt x="0" y="21707"/>
                </a:lnTo>
                <a:close/>
              </a:path>
              <a:path fill="lightenLess" w="21600" h="21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7">
                <a:moveTo>
                  <a:pt x="21600" y="0"/>
                </a:moveTo>
                <a:lnTo>
                  <a:pt x="21600" y="21707"/>
                </a:lnTo>
                <a:lnTo>
                  <a:pt x="20200" y="20307"/>
                </a:lnTo>
                <a:lnTo>
                  <a:pt x="20200" y="1400"/>
                </a:lnTo>
                <a:close/>
              </a:path>
              <a:path fill="darkenLess" w="21600" h="21707">
                <a:moveTo>
                  <a:pt x="21600" y="21707"/>
                </a:moveTo>
                <a:lnTo>
                  <a:pt x="0" y="21707"/>
                </a:lnTo>
                <a:lnTo>
                  <a:pt x="1400" y="20307"/>
                </a:lnTo>
                <a:lnTo>
                  <a:pt x="20200" y="20307"/>
                </a:lnTo>
                <a:close/>
              </a:path>
              <a:path fill="lighten" w="21600" h="21707">
                <a:moveTo>
                  <a:pt x="0" y="21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7"/>
                </a:lnTo>
                <a:close/>
              </a:path>
              <a:path fill="darken" w="21600" h="21707">
                <a:moveTo>
                  <a:pt x="3794" y="7546"/>
                </a:moveTo>
                <a:lnTo>
                  <a:pt x="7301" y="7546"/>
                </a:lnTo>
                <a:lnTo>
                  <a:pt x="7301" y="12882"/>
                </a:lnTo>
                <a:cubicBezTo>
                  <a:pt x="7301" y="13804"/>
                  <a:pt x="8102" y="14535"/>
                  <a:pt x="9138" y="14535"/>
                </a:cubicBezTo>
                <a:lnTo>
                  <a:pt x="10800" y="14535"/>
                </a:lnTo>
                <a:cubicBezTo>
                  <a:pt x="11836" y="14535"/>
                  <a:pt x="12636" y="13804"/>
                  <a:pt x="12636" y="12882"/>
                </a:cubicBezTo>
                <a:lnTo>
                  <a:pt x="12636" y="7546"/>
                </a:lnTo>
                <a:lnTo>
                  <a:pt x="10800" y="7546"/>
                </a:lnTo>
                <a:lnTo>
                  <a:pt x="14308" y="4039"/>
                </a:lnTo>
                <a:lnTo>
                  <a:pt x="17981" y="7546"/>
                </a:lnTo>
                <a:lnTo>
                  <a:pt x="16144" y="7546"/>
                </a:lnTo>
                <a:lnTo>
                  <a:pt x="16144" y="12882"/>
                </a:lnTo>
                <a:cubicBezTo>
                  <a:pt x="16144" y="15649"/>
                  <a:pt x="13568" y="18208"/>
                  <a:pt x="10800" y="18208"/>
                </a:cubicBezTo>
                <a:lnTo>
                  <a:pt x="9138" y="18208"/>
                </a:lnTo>
                <a:cubicBezTo>
                  <a:pt x="6370" y="18208"/>
                  <a:pt x="3794" y="15649"/>
                  <a:pt x="3794" y="12882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7386480" y="5519880"/>
            <a:ext cx="366840" cy="361800"/>
          </a:xfrm>
          <a:custGeom>
            <a:avLst/>
            <a:gdLst>
              <a:gd name="textAreaLeft" fmla="*/ 23400 w 366840"/>
              <a:gd name="textAreaRight" fmla="*/ 343440 w 366840"/>
              <a:gd name="textAreaTop" fmla="*/ 23400 h 361800"/>
              <a:gd name="textAreaBottom" fmla="*/ 338400 h 361800"/>
            </a:gdLst>
            <a:ahLst/>
            <a:rect l="textAreaLeft" t="textAreaTop" r="textAreaRight" b="textAreaBottom"/>
            <a:pathLst>
              <a:path w="21901" h="21600">
                <a:moveTo>
                  <a:pt x="0" y="0"/>
                </a:moveTo>
                <a:lnTo>
                  <a:pt x="21901" y="0"/>
                </a:lnTo>
                <a:lnTo>
                  <a:pt x="21901" y="21600"/>
                </a:lnTo>
                <a:lnTo>
                  <a:pt x="0" y="21600"/>
                </a:lnTo>
                <a:close/>
              </a:path>
              <a:path fill="lightenLess" w="21901" h="21600">
                <a:moveTo>
                  <a:pt x="0" y="0"/>
                </a:moveTo>
                <a:lnTo>
                  <a:pt x="21901" y="0"/>
                </a:lnTo>
                <a:lnTo>
                  <a:pt x="20501" y="1400"/>
                </a:lnTo>
                <a:lnTo>
                  <a:pt x="1400" y="1400"/>
                </a:lnTo>
                <a:close/>
              </a:path>
              <a:path fill="darken" w="21901" h="21600">
                <a:moveTo>
                  <a:pt x="21901" y="0"/>
                </a:moveTo>
                <a:lnTo>
                  <a:pt x="21901" y="21600"/>
                </a:lnTo>
                <a:lnTo>
                  <a:pt x="20501" y="20200"/>
                </a:lnTo>
                <a:lnTo>
                  <a:pt x="20501" y="1400"/>
                </a:lnTo>
                <a:close/>
              </a:path>
              <a:path fill="darkenLess" w="21901" h="21600">
                <a:moveTo>
                  <a:pt x="21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01" y="20200"/>
                </a:lnTo>
                <a:close/>
              </a:path>
              <a:path fill="lighten" w="21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01" h="21600">
                <a:moveTo>
                  <a:pt x="3944" y="3794"/>
                </a:moveTo>
                <a:lnTo>
                  <a:pt x="17957" y="10800"/>
                </a:lnTo>
                <a:lnTo>
                  <a:pt x="3944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Los comienzos en Hollyw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919 Chaplin, Pickford y Fairbanks, junto al director David W. Griffith, constituyen la productora United Art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923, con productora propia, sólida fortuna personal y una suntuosa mansión en Beverly Hills, se sintió al fin con las manos libres para desarrollar sin ataduras su creativ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e año dirigió, sin actuar, la excelente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A Woman of Par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con su admirada Edna y Adolphe Menj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925 rueda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The Gold Rush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La quimera del oro), de la que en 1942 realizó una versión sonora narrada por su voz y con música propia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9740" t="-887" r="16394" b="96413"/>
          <a:stretch/>
        </p:blipFill>
        <p:spPr>
          <a:xfrm>
            <a:off x="2771640" y="5544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2591" t="94255" r="19967" b="150"/>
          <a:stretch/>
        </p:blipFill>
        <p:spPr>
          <a:xfrm>
            <a:off x="2556000" y="6359400"/>
            <a:ext cx="4321080" cy="498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rId4" action="ppaction://hlinksldjump"/>
          </p:cNvPr>
          <p:cNvSpPr/>
          <p:nvPr/>
        </p:nvSpPr>
        <p:spPr>
          <a:xfrm>
            <a:off x="8028000" y="5729400"/>
            <a:ext cx="361800" cy="36360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1600" h="21707">
                <a:moveTo>
                  <a:pt x="0" y="0"/>
                </a:moveTo>
                <a:lnTo>
                  <a:pt x="21600" y="0"/>
                </a:lnTo>
                <a:lnTo>
                  <a:pt x="21600" y="21707"/>
                </a:lnTo>
                <a:lnTo>
                  <a:pt x="0" y="21707"/>
                </a:lnTo>
                <a:close/>
              </a:path>
              <a:path fill="lightenLess" w="21600" h="21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7">
                <a:moveTo>
                  <a:pt x="21600" y="0"/>
                </a:moveTo>
                <a:lnTo>
                  <a:pt x="21600" y="21707"/>
                </a:lnTo>
                <a:lnTo>
                  <a:pt x="20200" y="20307"/>
                </a:lnTo>
                <a:lnTo>
                  <a:pt x="20200" y="1400"/>
                </a:lnTo>
                <a:close/>
              </a:path>
              <a:path fill="darkenLess" w="21600" h="21707">
                <a:moveTo>
                  <a:pt x="21600" y="21707"/>
                </a:moveTo>
                <a:lnTo>
                  <a:pt x="0" y="21707"/>
                </a:lnTo>
                <a:lnTo>
                  <a:pt x="1400" y="20307"/>
                </a:lnTo>
                <a:lnTo>
                  <a:pt x="20200" y="20307"/>
                </a:lnTo>
                <a:close/>
              </a:path>
              <a:path fill="lighten" w="21600" h="21707">
                <a:moveTo>
                  <a:pt x="0" y="21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7"/>
                </a:lnTo>
                <a:close/>
              </a:path>
              <a:path fill="darken" w="21600" h="21707">
                <a:moveTo>
                  <a:pt x="3794" y="7546"/>
                </a:moveTo>
                <a:lnTo>
                  <a:pt x="7301" y="7546"/>
                </a:lnTo>
                <a:lnTo>
                  <a:pt x="7301" y="12882"/>
                </a:lnTo>
                <a:cubicBezTo>
                  <a:pt x="7301" y="13804"/>
                  <a:pt x="8102" y="14535"/>
                  <a:pt x="9138" y="14535"/>
                </a:cubicBezTo>
                <a:lnTo>
                  <a:pt x="10800" y="14535"/>
                </a:lnTo>
                <a:cubicBezTo>
                  <a:pt x="11836" y="14535"/>
                  <a:pt x="12636" y="13804"/>
                  <a:pt x="12636" y="12882"/>
                </a:cubicBezTo>
                <a:lnTo>
                  <a:pt x="12636" y="7546"/>
                </a:lnTo>
                <a:lnTo>
                  <a:pt x="10800" y="7546"/>
                </a:lnTo>
                <a:lnTo>
                  <a:pt x="14308" y="4039"/>
                </a:lnTo>
                <a:lnTo>
                  <a:pt x="17981" y="7546"/>
                </a:lnTo>
                <a:lnTo>
                  <a:pt x="16144" y="7546"/>
                </a:lnTo>
                <a:lnTo>
                  <a:pt x="16144" y="12882"/>
                </a:lnTo>
                <a:cubicBezTo>
                  <a:pt x="16144" y="15649"/>
                  <a:pt x="13568" y="18208"/>
                  <a:pt x="10800" y="18208"/>
                </a:cubicBezTo>
                <a:lnTo>
                  <a:pt x="9138" y="18208"/>
                </a:lnTo>
                <a:cubicBezTo>
                  <a:pt x="6370" y="18208"/>
                  <a:pt x="3794" y="15649"/>
                  <a:pt x="3794" y="12882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6877080" y="5734080"/>
            <a:ext cx="366840" cy="361800"/>
          </a:xfrm>
          <a:custGeom>
            <a:avLst/>
            <a:gdLst>
              <a:gd name="textAreaLeft" fmla="*/ 23400 w 366840"/>
              <a:gd name="textAreaRight" fmla="*/ 343440 w 366840"/>
              <a:gd name="textAreaTop" fmla="*/ 23400 h 361800"/>
              <a:gd name="textAreaBottom" fmla="*/ 338400 h 361800"/>
            </a:gdLst>
            <a:ahLst/>
            <a:rect l="textAreaLeft" t="textAreaTop" r="textAreaRight" b="textAreaBottom"/>
            <a:pathLst>
              <a:path w="21901" h="21600">
                <a:moveTo>
                  <a:pt x="0" y="0"/>
                </a:moveTo>
                <a:lnTo>
                  <a:pt x="21901" y="0"/>
                </a:lnTo>
                <a:lnTo>
                  <a:pt x="21901" y="21600"/>
                </a:lnTo>
                <a:lnTo>
                  <a:pt x="0" y="21600"/>
                </a:lnTo>
                <a:close/>
              </a:path>
              <a:path fill="lightenLess" w="21901" h="21600">
                <a:moveTo>
                  <a:pt x="0" y="0"/>
                </a:moveTo>
                <a:lnTo>
                  <a:pt x="21901" y="0"/>
                </a:lnTo>
                <a:lnTo>
                  <a:pt x="20501" y="1400"/>
                </a:lnTo>
                <a:lnTo>
                  <a:pt x="1400" y="1400"/>
                </a:lnTo>
                <a:close/>
              </a:path>
              <a:path fill="darken" w="21901" h="21600">
                <a:moveTo>
                  <a:pt x="21901" y="0"/>
                </a:moveTo>
                <a:lnTo>
                  <a:pt x="21901" y="21600"/>
                </a:lnTo>
                <a:lnTo>
                  <a:pt x="20501" y="20200"/>
                </a:lnTo>
                <a:lnTo>
                  <a:pt x="20501" y="1400"/>
                </a:lnTo>
                <a:close/>
              </a:path>
              <a:path fill="darkenLess" w="21901" h="21600">
                <a:moveTo>
                  <a:pt x="21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01" y="20200"/>
                </a:lnTo>
                <a:close/>
              </a:path>
              <a:path fill="lighten" w="21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01" h="21600">
                <a:moveTo>
                  <a:pt x="3944" y="10800"/>
                </a:moveTo>
                <a:lnTo>
                  <a:pt x="17957" y="3794"/>
                </a:lnTo>
                <a:lnTo>
                  <a:pt x="17957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7243920" y="5737320"/>
            <a:ext cx="366480" cy="361800"/>
          </a:xfrm>
          <a:custGeom>
            <a:avLst/>
            <a:gdLst>
              <a:gd name="textAreaLeft" fmla="*/ 23400 w 366480"/>
              <a:gd name="textAreaRight" fmla="*/ 343080 w 366480"/>
              <a:gd name="textAreaTop" fmla="*/ 23400 h 361800"/>
              <a:gd name="textAreaBottom" fmla="*/ 338400 h 361800"/>
            </a:gdLst>
            <a:ahLst/>
            <a:rect l="textAreaLeft" t="textAreaTop" r="textAreaRight" b="textAreaBottom"/>
            <a:pathLst>
              <a:path w="21879" h="21600">
                <a:moveTo>
                  <a:pt x="0" y="0"/>
                </a:moveTo>
                <a:lnTo>
                  <a:pt x="21879" y="0"/>
                </a:lnTo>
                <a:lnTo>
                  <a:pt x="21879" y="21600"/>
                </a:lnTo>
                <a:lnTo>
                  <a:pt x="0" y="21600"/>
                </a:lnTo>
                <a:close/>
              </a:path>
              <a:path fill="lightenLess" w="21879" h="21600">
                <a:moveTo>
                  <a:pt x="0" y="0"/>
                </a:moveTo>
                <a:lnTo>
                  <a:pt x="21879" y="0"/>
                </a:lnTo>
                <a:lnTo>
                  <a:pt x="20479" y="1400"/>
                </a:lnTo>
                <a:lnTo>
                  <a:pt x="1400" y="1400"/>
                </a:lnTo>
                <a:close/>
              </a:path>
              <a:path fill="darken" w="21879" h="21600">
                <a:moveTo>
                  <a:pt x="21879" y="0"/>
                </a:moveTo>
                <a:lnTo>
                  <a:pt x="21879" y="21600"/>
                </a:lnTo>
                <a:lnTo>
                  <a:pt x="20479" y="20200"/>
                </a:lnTo>
                <a:lnTo>
                  <a:pt x="20479" y="1400"/>
                </a:lnTo>
                <a:close/>
              </a:path>
              <a:path fill="darkenLess" w="21879" h="21600">
                <a:moveTo>
                  <a:pt x="218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79" y="20200"/>
                </a:lnTo>
                <a:close/>
              </a:path>
              <a:path fill="lighten" w="218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79" h="21600">
                <a:moveTo>
                  <a:pt x="3933" y="3794"/>
                </a:moveTo>
                <a:lnTo>
                  <a:pt x="17946" y="10800"/>
                </a:lnTo>
                <a:lnTo>
                  <a:pt x="393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Los comienzos en Hollyw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927, estrenó la primera película sonora,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El cantor de jazz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con Al Jol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928 realizó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The circu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El circo), película que él mismo consideraba menos lograda que las que integraban la trilogía, pese a ser un magnífico filme cómico. (recibió su primer Oscar de la Academia en 1929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s años más tarde estrenó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City Light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Luces de la ciudad), paradigma de la ternura y la desolación de su alter ego cinematográfico, con inclusión de escenas sonoras y música de Chapl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932 realizó un nuevo y extenso viaje a Europa, donde en una recepción conoció a la actriz francesa Paulette Godda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9740" t="-887" r="16394" b="96413"/>
          <a:stretch/>
        </p:blipFill>
        <p:spPr>
          <a:xfrm>
            <a:off x="2771640" y="6660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rcRect l="2591" t="94255" r="19967" b="150"/>
          <a:stretch/>
        </p:blipFill>
        <p:spPr>
          <a:xfrm>
            <a:off x="2556000" y="6359400"/>
            <a:ext cx="4321080" cy="498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rId4" action="ppaction://hlinksldjump"/>
          </p:cNvPr>
          <p:cNvSpPr/>
          <p:nvPr/>
        </p:nvSpPr>
        <p:spPr>
          <a:xfrm>
            <a:off x="8028000" y="5516640"/>
            <a:ext cx="361800" cy="36360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1600" h="21707">
                <a:moveTo>
                  <a:pt x="0" y="0"/>
                </a:moveTo>
                <a:lnTo>
                  <a:pt x="21600" y="0"/>
                </a:lnTo>
                <a:lnTo>
                  <a:pt x="21600" y="21707"/>
                </a:lnTo>
                <a:lnTo>
                  <a:pt x="0" y="21707"/>
                </a:lnTo>
                <a:close/>
              </a:path>
              <a:path fill="lightenLess" w="21600" h="21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7">
                <a:moveTo>
                  <a:pt x="21600" y="0"/>
                </a:moveTo>
                <a:lnTo>
                  <a:pt x="21600" y="21707"/>
                </a:lnTo>
                <a:lnTo>
                  <a:pt x="20200" y="20307"/>
                </a:lnTo>
                <a:lnTo>
                  <a:pt x="20200" y="1400"/>
                </a:lnTo>
                <a:close/>
              </a:path>
              <a:path fill="darkenLess" w="21600" h="21707">
                <a:moveTo>
                  <a:pt x="21600" y="21707"/>
                </a:moveTo>
                <a:lnTo>
                  <a:pt x="0" y="21707"/>
                </a:lnTo>
                <a:lnTo>
                  <a:pt x="1400" y="20307"/>
                </a:lnTo>
                <a:lnTo>
                  <a:pt x="20200" y="20307"/>
                </a:lnTo>
                <a:close/>
              </a:path>
              <a:path fill="lighten" w="21600" h="21707">
                <a:moveTo>
                  <a:pt x="0" y="21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7"/>
                </a:lnTo>
                <a:close/>
              </a:path>
              <a:path fill="darken" w="21600" h="21707">
                <a:moveTo>
                  <a:pt x="3794" y="7546"/>
                </a:moveTo>
                <a:lnTo>
                  <a:pt x="7301" y="7546"/>
                </a:lnTo>
                <a:lnTo>
                  <a:pt x="7301" y="12882"/>
                </a:lnTo>
                <a:cubicBezTo>
                  <a:pt x="7301" y="13804"/>
                  <a:pt x="8102" y="14535"/>
                  <a:pt x="9138" y="14535"/>
                </a:cubicBezTo>
                <a:lnTo>
                  <a:pt x="10800" y="14535"/>
                </a:lnTo>
                <a:cubicBezTo>
                  <a:pt x="11836" y="14535"/>
                  <a:pt x="12636" y="13804"/>
                  <a:pt x="12636" y="12882"/>
                </a:cubicBezTo>
                <a:lnTo>
                  <a:pt x="12636" y="7546"/>
                </a:lnTo>
                <a:lnTo>
                  <a:pt x="10800" y="7546"/>
                </a:lnTo>
                <a:lnTo>
                  <a:pt x="14308" y="4039"/>
                </a:lnTo>
                <a:lnTo>
                  <a:pt x="17981" y="7546"/>
                </a:lnTo>
                <a:lnTo>
                  <a:pt x="16144" y="7546"/>
                </a:lnTo>
                <a:lnTo>
                  <a:pt x="16144" y="12882"/>
                </a:lnTo>
                <a:cubicBezTo>
                  <a:pt x="16144" y="15649"/>
                  <a:pt x="13568" y="18208"/>
                  <a:pt x="10800" y="18208"/>
                </a:cubicBezTo>
                <a:lnTo>
                  <a:pt x="9138" y="18208"/>
                </a:lnTo>
                <a:cubicBezTo>
                  <a:pt x="6370" y="18208"/>
                  <a:pt x="3794" y="15649"/>
                  <a:pt x="3794" y="12882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previousslide"/>
          </p:cNvPr>
          <p:cNvSpPr/>
          <p:nvPr/>
        </p:nvSpPr>
        <p:spPr>
          <a:xfrm>
            <a:off x="7020000" y="5516640"/>
            <a:ext cx="366480" cy="361800"/>
          </a:xfrm>
          <a:custGeom>
            <a:avLst/>
            <a:gdLst>
              <a:gd name="textAreaLeft" fmla="*/ 23400 w 366480"/>
              <a:gd name="textAreaRight" fmla="*/ 343080 w 366480"/>
              <a:gd name="textAreaTop" fmla="*/ 23400 h 361800"/>
              <a:gd name="textAreaBottom" fmla="*/ 338400 h 361800"/>
            </a:gdLst>
            <a:ahLst/>
            <a:rect l="textAreaLeft" t="textAreaTop" r="textAreaRight" b="textAreaBottom"/>
            <a:pathLst>
              <a:path w="21879" h="21600">
                <a:moveTo>
                  <a:pt x="0" y="0"/>
                </a:moveTo>
                <a:lnTo>
                  <a:pt x="21879" y="0"/>
                </a:lnTo>
                <a:lnTo>
                  <a:pt x="21879" y="21600"/>
                </a:lnTo>
                <a:lnTo>
                  <a:pt x="0" y="21600"/>
                </a:lnTo>
                <a:close/>
              </a:path>
              <a:path fill="lightenLess" w="21879" h="21600">
                <a:moveTo>
                  <a:pt x="0" y="0"/>
                </a:moveTo>
                <a:lnTo>
                  <a:pt x="21879" y="0"/>
                </a:lnTo>
                <a:lnTo>
                  <a:pt x="20479" y="1400"/>
                </a:lnTo>
                <a:lnTo>
                  <a:pt x="1400" y="1400"/>
                </a:lnTo>
                <a:close/>
              </a:path>
              <a:path fill="darken" w="21879" h="21600">
                <a:moveTo>
                  <a:pt x="21879" y="0"/>
                </a:moveTo>
                <a:lnTo>
                  <a:pt x="21879" y="21600"/>
                </a:lnTo>
                <a:lnTo>
                  <a:pt x="20479" y="20200"/>
                </a:lnTo>
                <a:lnTo>
                  <a:pt x="20479" y="1400"/>
                </a:lnTo>
                <a:close/>
              </a:path>
              <a:path fill="darkenLess" w="21879" h="21600">
                <a:moveTo>
                  <a:pt x="218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79" y="20200"/>
                </a:lnTo>
                <a:close/>
              </a:path>
              <a:path fill="lighten" w="218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79" h="21600">
                <a:moveTo>
                  <a:pt x="3933" y="10800"/>
                </a:moveTo>
                <a:lnTo>
                  <a:pt x="17946" y="3794"/>
                </a:lnTo>
                <a:lnTo>
                  <a:pt x="17946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9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m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384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 matrimonio con la actriz de 19 años Mildred Harris, celebrado el 23 de octubre, duraría hasta 1920 y el divorcio le costó a Charles 200.000 de sus preciosos dól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24 de noviembre de 1924 con 35 años, contrajo matrimonio en México con la jovencísima actriz Lolita McMurray (o Lita Grey), de 16  años. La unión duró hasta 1927 y Chaplin obtuvo de ella sus dos primeros hijos (Charles Spencer y Sydney Earle) y pagó un millón de dólares al divorciarse de su Loli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los 54 años se casa con Oona joven de 18 años e  hija del insigne dramaturgo Eugene O'Neill, y con la que permanecería a su lado el resto de su vi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9740" t="-887" r="16394" b="96413"/>
          <a:stretch/>
        </p:blipFill>
        <p:spPr>
          <a:xfrm>
            <a:off x="2771640" y="6660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rcRect l="2591" t="94255" r="19967" b="150"/>
          <a:stretch/>
        </p:blipFill>
        <p:spPr>
          <a:xfrm>
            <a:off x="2556000" y="6359400"/>
            <a:ext cx="4321080" cy="498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028000" y="5516640"/>
            <a:ext cx="361800" cy="36360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1600" h="21707">
                <a:moveTo>
                  <a:pt x="0" y="0"/>
                </a:moveTo>
                <a:lnTo>
                  <a:pt x="21600" y="0"/>
                </a:lnTo>
                <a:lnTo>
                  <a:pt x="21600" y="21707"/>
                </a:lnTo>
                <a:lnTo>
                  <a:pt x="0" y="21707"/>
                </a:lnTo>
                <a:close/>
              </a:path>
              <a:path fill="lightenLess" w="21600" h="21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7">
                <a:moveTo>
                  <a:pt x="21600" y="0"/>
                </a:moveTo>
                <a:lnTo>
                  <a:pt x="21600" y="21707"/>
                </a:lnTo>
                <a:lnTo>
                  <a:pt x="20200" y="20307"/>
                </a:lnTo>
                <a:lnTo>
                  <a:pt x="20200" y="1400"/>
                </a:lnTo>
                <a:close/>
              </a:path>
              <a:path fill="darkenLess" w="21600" h="21707">
                <a:moveTo>
                  <a:pt x="21600" y="21707"/>
                </a:moveTo>
                <a:lnTo>
                  <a:pt x="0" y="21707"/>
                </a:lnTo>
                <a:lnTo>
                  <a:pt x="1400" y="20307"/>
                </a:lnTo>
                <a:lnTo>
                  <a:pt x="20200" y="20307"/>
                </a:lnTo>
                <a:close/>
              </a:path>
              <a:path fill="lighten" w="21600" h="21707">
                <a:moveTo>
                  <a:pt x="0" y="21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7"/>
                </a:lnTo>
                <a:close/>
              </a:path>
              <a:path fill="darken" w="21600" h="21707">
                <a:moveTo>
                  <a:pt x="3794" y="7546"/>
                </a:moveTo>
                <a:lnTo>
                  <a:pt x="7301" y="7546"/>
                </a:lnTo>
                <a:lnTo>
                  <a:pt x="7301" y="12882"/>
                </a:lnTo>
                <a:cubicBezTo>
                  <a:pt x="7301" y="13804"/>
                  <a:pt x="8102" y="14535"/>
                  <a:pt x="9138" y="14535"/>
                </a:cubicBezTo>
                <a:lnTo>
                  <a:pt x="10800" y="14535"/>
                </a:lnTo>
                <a:cubicBezTo>
                  <a:pt x="11836" y="14535"/>
                  <a:pt x="12636" y="13804"/>
                  <a:pt x="12636" y="12882"/>
                </a:cubicBezTo>
                <a:lnTo>
                  <a:pt x="12636" y="7546"/>
                </a:lnTo>
                <a:lnTo>
                  <a:pt x="10800" y="7546"/>
                </a:lnTo>
                <a:lnTo>
                  <a:pt x="14308" y="4039"/>
                </a:lnTo>
                <a:lnTo>
                  <a:pt x="17981" y="7546"/>
                </a:lnTo>
                <a:lnTo>
                  <a:pt x="16144" y="7546"/>
                </a:lnTo>
                <a:lnTo>
                  <a:pt x="16144" y="12882"/>
                </a:lnTo>
                <a:cubicBezTo>
                  <a:pt x="16144" y="15649"/>
                  <a:pt x="13568" y="18208"/>
                  <a:pt x="10800" y="18208"/>
                </a:cubicBezTo>
                <a:lnTo>
                  <a:pt x="9138" y="18208"/>
                </a:lnTo>
                <a:cubicBezTo>
                  <a:pt x="6370" y="18208"/>
                  <a:pt x="3794" y="15649"/>
                  <a:pt x="3794" y="12882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Imagen 3" descr="http://www.biografiasyvidas.com/monografia/chaplin/fotos/chaplin_oona.jpg"/>
          <p:cNvPicPr/>
          <p:nvPr/>
        </p:nvPicPr>
        <p:blipFill>
          <a:blip r:embed="rId4"/>
          <a:stretch/>
        </p:blipFill>
        <p:spPr>
          <a:xfrm>
            <a:off x="5076720" y="2349360"/>
            <a:ext cx="3238560" cy="203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 patriarca de Veve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as rodar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Monsieur Verdoux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1947, cayó bajo la ola del maccarthismo que tenía como blanco a intelectuales y artistas de Hollywoo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952 rodó en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ondres Limelight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Candilejas), magnífica y sentimental rememoración de sus días de cómico ambulante, y dos años más tarde recibió el Premio Internacional de la Pa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 resentimiento contra Estados Unidos se reflejó en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 King in New York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Un rey en Nueva York), filme de 1957 cuyos altibajos no ocultan el corrosivo humor chaplini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los 78 años fue padre de su octavo hijo con Oona, Christopher, nacido en 196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964 se publicó en Londres su autobiografía,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Historia de mi v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1972 retorno a Hollywood, para recibir un Oscar por la totalidad de su obr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9740" t="-887" r="16394" b="96413"/>
          <a:stretch/>
        </p:blipFill>
        <p:spPr>
          <a:xfrm>
            <a:off x="2771640" y="5544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rcRect l="2591" t="94255" r="19967" b="150"/>
          <a:stretch/>
        </p:blipFill>
        <p:spPr>
          <a:xfrm>
            <a:off x="2556000" y="6359400"/>
            <a:ext cx="4321080" cy="498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028000" y="5657760"/>
            <a:ext cx="361800" cy="36360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1600" h="21707">
                <a:moveTo>
                  <a:pt x="0" y="0"/>
                </a:moveTo>
                <a:lnTo>
                  <a:pt x="21600" y="0"/>
                </a:lnTo>
                <a:lnTo>
                  <a:pt x="21600" y="21707"/>
                </a:lnTo>
                <a:lnTo>
                  <a:pt x="0" y="21707"/>
                </a:lnTo>
                <a:close/>
              </a:path>
              <a:path fill="lightenLess" w="21600" h="21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7">
                <a:moveTo>
                  <a:pt x="21600" y="0"/>
                </a:moveTo>
                <a:lnTo>
                  <a:pt x="21600" y="21707"/>
                </a:lnTo>
                <a:lnTo>
                  <a:pt x="20200" y="20307"/>
                </a:lnTo>
                <a:lnTo>
                  <a:pt x="20200" y="1400"/>
                </a:lnTo>
                <a:close/>
              </a:path>
              <a:path fill="darkenLess" w="21600" h="21707">
                <a:moveTo>
                  <a:pt x="21600" y="21707"/>
                </a:moveTo>
                <a:lnTo>
                  <a:pt x="0" y="21707"/>
                </a:lnTo>
                <a:lnTo>
                  <a:pt x="1400" y="20307"/>
                </a:lnTo>
                <a:lnTo>
                  <a:pt x="20200" y="20307"/>
                </a:lnTo>
                <a:close/>
              </a:path>
              <a:path fill="lighten" w="21600" h="21707">
                <a:moveTo>
                  <a:pt x="0" y="21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7"/>
                </a:lnTo>
                <a:close/>
              </a:path>
              <a:path fill="darken" w="21600" h="21707">
                <a:moveTo>
                  <a:pt x="3794" y="7546"/>
                </a:moveTo>
                <a:lnTo>
                  <a:pt x="7301" y="7546"/>
                </a:lnTo>
                <a:lnTo>
                  <a:pt x="7301" y="12882"/>
                </a:lnTo>
                <a:cubicBezTo>
                  <a:pt x="7301" y="13804"/>
                  <a:pt x="8102" y="14535"/>
                  <a:pt x="9138" y="14535"/>
                </a:cubicBezTo>
                <a:lnTo>
                  <a:pt x="10800" y="14535"/>
                </a:lnTo>
                <a:cubicBezTo>
                  <a:pt x="11836" y="14535"/>
                  <a:pt x="12636" y="13804"/>
                  <a:pt x="12636" y="12882"/>
                </a:cubicBezTo>
                <a:lnTo>
                  <a:pt x="12636" y="7546"/>
                </a:lnTo>
                <a:lnTo>
                  <a:pt x="10800" y="7546"/>
                </a:lnTo>
                <a:lnTo>
                  <a:pt x="14308" y="4039"/>
                </a:lnTo>
                <a:lnTo>
                  <a:pt x="17981" y="7546"/>
                </a:lnTo>
                <a:lnTo>
                  <a:pt x="16144" y="7546"/>
                </a:lnTo>
                <a:lnTo>
                  <a:pt x="16144" y="12882"/>
                </a:lnTo>
                <a:cubicBezTo>
                  <a:pt x="16144" y="15649"/>
                  <a:pt x="13568" y="18208"/>
                  <a:pt x="10800" y="18208"/>
                </a:cubicBezTo>
                <a:lnTo>
                  <a:pt x="9138" y="18208"/>
                </a:lnTo>
                <a:cubicBezTo>
                  <a:pt x="6370" y="18208"/>
                  <a:pt x="3794" y="15649"/>
                  <a:pt x="3794" y="12882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em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928 Óscar Honorífico «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Por su versatilidad al producir, escribir, dirigir y actuar en su películ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El circo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971 Óscar Honorífico «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Por el incalculable efecto que ha producido en el arte del siglo XX: el cin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972 Óscar a la mejor música original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Candilej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junto a Ray Rass y Larry Russe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BAFTA. 1977 Premio Espec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estival de Venecia. 1972 León de Oro por toda su carre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de la Crítica de Cine de Nueva York. 1940 Mejor Actor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El gran dictado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Kinema Junpo. 1925 Mejor Película Artística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Una mujer de Parí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Kinema Junpo. 1927 Mejor Película Extranjera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La quimera del or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Kinema Junpo. 1953 Mejor Película Extranjera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Monsieur Verdoux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Kinema Junpo. 1961 Mejor Película Extranjera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El gran dictado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Jussi. 1974 Mejor Cineasta Extranjero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Tiempos modern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El gran dictado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Bodil. 1949 Mejor Película Americana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Monsieur Verdoux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Bodil. 1959 Premio Honorar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del Círculo de Escritores de España. 1956 Mejor Película Extranjera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Candilej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9740" t="-887" r="16394" b="96413"/>
          <a:stretch/>
        </p:blipFill>
        <p:spPr>
          <a:xfrm>
            <a:off x="2771640" y="6660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rcRect l="2591" t="94255" r="19967" b="150"/>
          <a:stretch/>
        </p:blipFill>
        <p:spPr>
          <a:xfrm>
            <a:off x="2556000" y="6359400"/>
            <a:ext cx="4321080" cy="498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8028000" y="5950080"/>
            <a:ext cx="361800" cy="36324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240"/>
              <a:gd name="textAreaBottom" fmla="*/ 339840 h 363240"/>
            </a:gdLst>
            <a:ahLst/>
            <a:rect l="textAreaLeft" t="textAreaTop" r="textAreaRight" b="textAreaBottom"/>
            <a:pathLst>
              <a:path w="21600" h="21686">
                <a:moveTo>
                  <a:pt x="0" y="0"/>
                </a:moveTo>
                <a:lnTo>
                  <a:pt x="21600" y="0"/>
                </a:lnTo>
                <a:lnTo>
                  <a:pt x="21600" y="21686"/>
                </a:lnTo>
                <a:lnTo>
                  <a:pt x="0" y="21686"/>
                </a:lnTo>
                <a:close/>
              </a:path>
              <a:path fill="lightenLess" w="21600" h="216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6">
                <a:moveTo>
                  <a:pt x="21600" y="0"/>
                </a:moveTo>
                <a:lnTo>
                  <a:pt x="21600" y="21686"/>
                </a:lnTo>
                <a:lnTo>
                  <a:pt x="20200" y="20286"/>
                </a:lnTo>
                <a:lnTo>
                  <a:pt x="20200" y="1400"/>
                </a:lnTo>
                <a:close/>
              </a:path>
              <a:path fill="darkenLess" w="21600" h="21686">
                <a:moveTo>
                  <a:pt x="21600" y="21686"/>
                </a:moveTo>
                <a:lnTo>
                  <a:pt x="0" y="21686"/>
                </a:lnTo>
                <a:lnTo>
                  <a:pt x="1400" y="20286"/>
                </a:lnTo>
                <a:lnTo>
                  <a:pt x="20200" y="20286"/>
                </a:lnTo>
                <a:close/>
              </a:path>
              <a:path fill="lighten" w="21600" h="21686">
                <a:moveTo>
                  <a:pt x="0" y="216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6"/>
                </a:lnTo>
                <a:close/>
              </a:path>
              <a:path fill="darken" w="21600" h="21686">
                <a:moveTo>
                  <a:pt x="3794" y="7536"/>
                </a:moveTo>
                <a:lnTo>
                  <a:pt x="7301" y="7536"/>
                </a:lnTo>
                <a:lnTo>
                  <a:pt x="7301" y="12871"/>
                </a:lnTo>
                <a:cubicBezTo>
                  <a:pt x="7301" y="13793"/>
                  <a:pt x="8102" y="14525"/>
                  <a:pt x="9138" y="14525"/>
                </a:cubicBezTo>
                <a:lnTo>
                  <a:pt x="10800" y="14525"/>
                </a:lnTo>
                <a:cubicBezTo>
                  <a:pt x="11836" y="14525"/>
                  <a:pt x="12636" y="13793"/>
                  <a:pt x="12636" y="12871"/>
                </a:cubicBezTo>
                <a:lnTo>
                  <a:pt x="12636" y="7536"/>
                </a:lnTo>
                <a:lnTo>
                  <a:pt x="10800" y="7536"/>
                </a:lnTo>
                <a:lnTo>
                  <a:pt x="14308" y="4028"/>
                </a:lnTo>
                <a:lnTo>
                  <a:pt x="17981" y="7536"/>
                </a:lnTo>
                <a:lnTo>
                  <a:pt x="16144" y="7536"/>
                </a:lnTo>
                <a:lnTo>
                  <a:pt x="16144" y="12871"/>
                </a:lnTo>
                <a:cubicBezTo>
                  <a:pt x="16144" y="15639"/>
                  <a:pt x="13568" y="18198"/>
                  <a:pt x="10800" y="18198"/>
                </a:cubicBezTo>
                <a:lnTo>
                  <a:pt x="9138" y="18198"/>
                </a:lnTo>
                <a:cubicBezTo>
                  <a:pt x="6370" y="18198"/>
                  <a:pt x="3794" y="15639"/>
                  <a:pt x="3794" y="12871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l f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urió a los ochenta y ocho años, el 25 de diciembre de 1977. Dejaba un total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79 películas filmadas en más de cincuenta años de actividad como actor y direct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Carme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1916), según la novela de Merimé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The Vagabond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El vagabundo), 1916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A Day's Pleasur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Un día de juerga), 1919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Pay Day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Día de paga), 1922,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The Pilgri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El peregrino), 1923, entre las más apreciadas por la crítica y celebradas por el públ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435640" y="2916360"/>
            <a:ext cx="2070000" cy="1693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rcRect l="9740" t="-887" r="16394" b="96413"/>
          <a:stretch/>
        </p:blipFill>
        <p:spPr>
          <a:xfrm>
            <a:off x="2771640" y="6660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rcRect l="2591" t="94255" r="19967" b="150"/>
          <a:stretch/>
        </p:blipFill>
        <p:spPr>
          <a:xfrm>
            <a:off x="2556000" y="6359400"/>
            <a:ext cx="4321080" cy="4986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8028000" y="5516640"/>
            <a:ext cx="361800" cy="36360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1600" h="21707">
                <a:moveTo>
                  <a:pt x="0" y="0"/>
                </a:moveTo>
                <a:lnTo>
                  <a:pt x="21600" y="0"/>
                </a:lnTo>
                <a:lnTo>
                  <a:pt x="21600" y="21707"/>
                </a:lnTo>
                <a:lnTo>
                  <a:pt x="0" y="21707"/>
                </a:lnTo>
                <a:close/>
              </a:path>
              <a:path fill="lightenLess" w="21600" h="21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7">
                <a:moveTo>
                  <a:pt x="21600" y="0"/>
                </a:moveTo>
                <a:lnTo>
                  <a:pt x="21600" y="21707"/>
                </a:lnTo>
                <a:lnTo>
                  <a:pt x="20200" y="20307"/>
                </a:lnTo>
                <a:lnTo>
                  <a:pt x="20200" y="1400"/>
                </a:lnTo>
                <a:close/>
              </a:path>
              <a:path fill="darkenLess" w="21600" h="21707">
                <a:moveTo>
                  <a:pt x="21600" y="21707"/>
                </a:moveTo>
                <a:lnTo>
                  <a:pt x="0" y="21707"/>
                </a:lnTo>
                <a:lnTo>
                  <a:pt x="1400" y="20307"/>
                </a:lnTo>
                <a:lnTo>
                  <a:pt x="20200" y="20307"/>
                </a:lnTo>
                <a:close/>
              </a:path>
              <a:path fill="lighten" w="21600" h="21707">
                <a:moveTo>
                  <a:pt x="0" y="21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7"/>
                </a:lnTo>
                <a:close/>
              </a:path>
              <a:path fill="darken" w="21600" h="21707">
                <a:moveTo>
                  <a:pt x="3794" y="7546"/>
                </a:moveTo>
                <a:lnTo>
                  <a:pt x="7301" y="7546"/>
                </a:lnTo>
                <a:lnTo>
                  <a:pt x="7301" y="12882"/>
                </a:lnTo>
                <a:cubicBezTo>
                  <a:pt x="7301" y="13804"/>
                  <a:pt x="8102" y="14535"/>
                  <a:pt x="9138" y="14535"/>
                </a:cubicBezTo>
                <a:lnTo>
                  <a:pt x="10800" y="14535"/>
                </a:lnTo>
                <a:cubicBezTo>
                  <a:pt x="11836" y="14535"/>
                  <a:pt x="12636" y="13804"/>
                  <a:pt x="12636" y="12882"/>
                </a:cubicBezTo>
                <a:lnTo>
                  <a:pt x="12636" y="7546"/>
                </a:lnTo>
                <a:lnTo>
                  <a:pt x="10800" y="7546"/>
                </a:lnTo>
                <a:lnTo>
                  <a:pt x="14308" y="4039"/>
                </a:lnTo>
                <a:lnTo>
                  <a:pt x="17981" y="7546"/>
                </a:lnTo>
                <a:lnTo>
                  <a:pt x="16144" y="7546"/>
                </a:lnTo>
                <a:lnTo>
                  <a:pt x="16144" y="12882"/>
                </a:lnTo>
                <a:cubicBezTo>
                  <a:pt x="16144" y="15649"/>
                  <a:pt x="13568" y="18208"/>
                  <a:pt x="10800" y="18208"/>
                </a:cubicBezTo>
                <a:lnTo>
                  <a:pt x="9138" y="18208"/>
                </a:lnTo>
                <a:cubicBezTo>
                  <a:pt x="6370" y="18208"/>
                  <a:pt x="3794" y="15649"/>
                  <a:pt x="3794" y="12882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48360" y="4653000"/>
            <a:ext cx="2808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900" spc="-1" strike="noStrike">
                <a:solidFill>
                  <a:srgbClr val="000000"/>
                </a:solidFill>
                <a:latin typeface="Arial"/>
              </a:rPr>
              <a:t>Haga click sobre la imagen para reproducir el vide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20:13:43Z</dcterms:created>
  <dc:creator>juan.ruiz</dc:creator>
  <dc:description/>
  <dc:language>en-US</dc:language>
  <cp:lastModifiedBy>Ana </cp:lastModifiedBy>
  <dcterms:modified xsi:type="dcterms:W3CDTF">2010-02-01T19:19:44Z</dcterms:modified>
  <cp:revision>23</cp:revision>
  <dc:subject/>
  <dc:title>Charles Chaplin (1889-1977)</dc:title>
</cp:coreProperties>
</file>