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1863-3CC7-4511-8D48-E7D03078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CB0E-EE44-4C40-9299-3A708994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9DE7-AD8D-45AD-9C67-7BC8F15C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6117-7E4C-47A4-92FE-8DAB6995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0902-C2E1-4E64-AD3C-89944D9E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9561-FE3F-4673-8663-CFC0E31F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C039-625B-4AA6-85D1-FE4D34C4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E63A-3843-458E-8A95-AE35163A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6FF4-6F6B-4E9A-9D53-99DA11AD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535C-0157-44F7-8EAC-3ABF48E6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E62F-A67F-428E-89E1-BD07A96E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2157-8E99-4043-A9C9-A8F943A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CE92-50A4-4554-94F2-F66CD0F3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5A2C-965B-45FA-A7FE-3AC8772E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5661-6ED2-4014-82C0-13196950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8551-E34D-45B0-BC86-AE6460D5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9A2D-B136-4CFA-9F6D-8FE0B50A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0A16-D593-4335-872E-FBD69CEC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F636-464C-4BCB-92CF-01454CBD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3CB9-9164-46F0-8B3B-56291B4B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24CF-34F2-44AF-B2D2-D169D63C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DCA5-F98B-4C97-86C8-B6E0EBC0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F4D1-9A96-42D2-9DC9-325AFABC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D16D-575F-4751-8CAB-061A1FC3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7277-8A60-4265-94EA-AEF71C8ED88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9DD-2624-4546-8CF9-8361CFDF31A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image" Target="../media/image2.jpeg"/><Relationship Id="rId5" Type="http://schemas.openxmlformats.org/officeDocument/2006/relationships/slide" Target="slide6.xml"/><Relationship Id="rId6" Type="http://schemas.openxmlformats.org/officeDocument/2006/relationships/image" Target="../media/image3.jpeg"/><Relationship Id="rId7" Type="http://schemas.openxmlformats.org/officeDocument/2006/relationships/slide" Target="slide2.xml"/><Relationship Id="rId8" Type="http://schemas.openxmlformats.org/officeDocument/2006/relationships/image" Target="../media/image4.jpeg"/><Relationship Id="rId9" Type="http://schemas.openxmlformats.org/officeDocument/2006/relationships/slide" Target="slide9.xml"/><Relationship Id="rId10" Type="http://schemas.openxmlformats.org/officeDocument/2006/relationships/image" Target="../media/image5.jpeg"/><Relationship Id="rId11" Type="http://schemas.openxmlformats.org/officeDocument/2006/relationships/slide" Target="slide8.xm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CHARLES CHAPL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magen 1" descr="http://www.biografiasyvidas.com/monografia/chaplin/fotos/chaplin_teatro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661000"/>
            <a:ext cx="1222200" cy="915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5080" y="48466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n 2" descr="http://www.biografiasyvidas.com/monografia/chaplin/fotos/chaplin_elcirco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5589720"/>
            <a:ext cx="1224000" cy="87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5240" y="592596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IEN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N HOLLYW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3" descr="http://www.biografiasyvidas.com/monografia/chaplin/fotos/chaplin_oona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581360"/>
            <a:ext cx="1224000" cy="77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4520" y="48466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4520" y="57340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atria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Ve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9640" y="4508640"/>
            <a:ext cx="685800" cy="836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69800" y="484668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877080" y="5764320"/>
            <a:ext cx="69048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87240" y="5805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888240" y="4724280"/>
            <a:ext cx="6746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arles Chaplin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(1889-19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ació el 16 de abril de 1889, e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alworth (Londr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padres eran cantantes y actores de variedades de origen jud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ció en el barrio de Kensington, rodeado de muchos actores de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usic-hal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dó al cuidado de su madre cuando el matrimonio se separó, poco después de su naci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 padre murió cuando tenía 12 años, y éste (junto con su hermano Sidney) pasó largos períodos de tiempo en orfana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unió a los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ight Lancashire Lad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n grupo de actores juveniles aficionados que hacían giras por los pueb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1901, con doce años, representó el rol de protagonista e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Jim, the Romance of a Cockne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 cuatro años más tarde realizó una gira co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he Painful Predicament of Sherlock Holm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3132000" y="6259680"/>
            <a:ext cx="331164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1" descr="http://www.biografiasyvidas.com/monografia/chaplin/fotos/chaplin_teatro.jpg"/>
          <p:cNvPicPr/>
          <p:nvPr/>
        </p:nvPicPr>
        <p:blipFill>
          <a:blip r:embed="rId4"/>
          <a:stretch/>
        </p:blipFill>
        <p:spPr>
          <a:xfrm>
            <a:off x="5148360" y="198900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3520" y="4507560"/>
            <a:ext cx="289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lin e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 Night in th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Charlot en el teatro)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19 años vivió su primero romance, al enamorarse de la joven actriz Hetty Ke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d Karno le ayudo a perfeccionar sus recursos mí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de febrero de 1914, estrena su primera película, Making a Living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Ganándos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5, la productora Essanay lo contrata por 1.500 dólares a la se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la Essanay, Chaplin pasó a escribir y dirigir los catorce films que rodó en 19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Charlot se lo daría en 1915 el distribuidor de sus filmes en 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8 la First National contrató a Charlie Chaplin por la cifra récord de un millón de dólares an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700360" y="6237360"/>
            <a:ext cx="4321080" cy="498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386480" y="55198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3794"/>
                </a:moveTo>
                <a:lnTo>
                  <a:pt x="17957" y="10800"/>
                </a:lnTo>
                <a:lnTo>
                  <a:pt x="394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19 Chaplin, Pickford y Fairbanks, junto al director David W. Griffith, constituyen la productora United Art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3, con productora propia, sólida fortuna personal y una suntuosa mansión en Beverly Hills, se sintió al fin con las manos libres para desarrollar sin ataduras su crea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e año dirigió, sin actuar, la excelent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 Woman of Par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su admirada Edna y Adolphe Menj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5 rued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he Gold Rus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quimera del oro), de la que en 1942 realizó una versión sonora narrada por su voz y con música propia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028000" y="572940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877080" y="57340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10800"/>
                </a:moveTo>
                <a:lnTo>
                  <a:pt x="17957" y="3794"/>
                </a:lnTo>
                <a:lnTo>
                  <a:pt x="1795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243920" y="573732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3794"/>
                </a:moveTo>
                <a:lnTo>
                  <a:pt x="17946" y="10800"/>
                </a:lnTo>
                <a:lnTo>
                  <a:pt x="393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7, estrenó la primera película sonor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cantor de jaz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Al Jo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8 realiz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he cir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l circo), película que él mismo consideraba menos lograda que las que integraban la trilogía, pese a ser un magnífico filme cómico. (recibió su primer Oscar de la Academia en 192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s años más tarde estren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Luces de la ciudad), paradigma de la ternura y la desolación de su alter ego cinematográfico, con inclusión de escenas sonoras y música de Chap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32 realizó un nuevo y extenso viaje a Europa, donde en una recepción conoció a la actriz francesa Paulette Godd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020000" y="551664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10800"/>
                </a:moveTo>
                <a:lnTo>
                  <a:pt x="17946" y="3794"/>
                </a:lnTo>
                <a:lnTo>
                  <a:pt x="1794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matrimonio con la actriz de 19 años Mildred Harris, celebrado el 23 de octubre, duraría hasta 1920 y el divorcio le costó a Charles 200.000 de sus preciosos dó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24 de noviembre de 1924 con 35 años, contrajo matrimonio en México con la jovencísima actriz Lolita McMurray (o Lita Grey), de 16  años. La unión duró hasta 1927 y Chaplin obtuvo de ella sus dos primeros hijos (Charles Spencer y Sydney Earle) y pagó un millón de dólares al divorciarse de su Lo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los 54 años se casa con Oona joven de 18 años e  hija del insigne dramaturgo Eugene O'Neill, y con la que permanecería a su lado el resto de su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n 3" descr="http://www.biografiasyvidas.com/monografia/chaplin/fotos/chaplin_oona.jpg"/>
          <p:cNvPicPr/>
          <p:nvPr/>
        </p:nvPicPr>
        <p:blipFill>
          <a:blip r:embed="rId4"/>
          <a:stretch/>
        </p:blipFill>
        <p:spPr>
          <a:xfrm>
            <a:off x="5076720" y="2349360"/>
            <a:ext cx="32385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atriarca de Veve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 roda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1947, cayó bajo la ola del maccarthismo que tenía como blanco a intelectuales y artistas de Hollyw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52 rod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ondres Limeligh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Candilejas), magnífica y sentimental rememoración de sus días de cómico ambulante, y dos años más tarde recibió el Premio Internacional de la Pa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resentimiento contra Estados Unidos se reflej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 King in New Yor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Un rey en Nueva York), filme de 1957 cuyos altibajos no ocultan el corrosivo humor chaplin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os 78 años fue padre de su octavo hijo con Oona, Christopher, nacido en 19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64 se publicó en Londres su autobiografí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istoria de mi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72 retorno a Hollywood, para recibir un Oscar por la totalidad de su obr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028000" y="565776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28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su versatilidad al producir, escribir, dirigir y actuar en su pelícu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l circo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1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el incalculable efecto que ha producido en el arte del siglo XX: el cin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2 Óscar a la mejor música original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junto a Ray Rass y Larry Russe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AFTA. 1977 Premio Espe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stival de Venecia. 1972 León de Oro por toda su carr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 la Crítica de Cine de Nueva York. 1940 Mejor Actor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5 Mejor Película Artístic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Una mujer de Parí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7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La quimera del or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53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61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Jussi. 1974 Mejor Cineasta Extranjero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iempos modern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49 Mejor Película American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59 Premio Honor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l Círculo de Escritores de España. 1956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28000" y="5950080"/>
            <a:ext cx="361800" cy="36324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240"/>
              <a:gd name="textAreaBottom" fmla="*/ 339840 h 36324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3794" y="7536"/>
                </a:moveTo>
                <a:lnTo>
                  <a:pt x="7301" y="7536"/>
                </a:lnTo>
                <a:lnTo>
                  <a:pt x="7301" y="12871"/>
                </a:lnTo>
                <a:cubicBezTo>
                  <a:pt x="7301" y="13793"/>
                  <a:pt x="8102" y="14525"/>
                  <a:pt x="9138" y="14525"/>
                </a:cubicBezTo>
                <a:lnTo>
                  <a:pt x="10800" y="14525"/>
                </a:lnTo>
                <a:cubicBezTo>
                  <a:pt x="11836" y="14525"/>
                  <a:pt x="12636" y="13793"/>
                  <a:pt x="12636" y="12871"/>
                </a:cubicBezTo>
                <a:lnTo>
                  <a:pt x="12636" y="7536"/>
                </a:lnTo>
                <a:lnTo>
                  <a:pt x="10800" y="7536"/>
                </a:lnTo>
                <a:lnTo>
                  <a:pt x="14308" y="4028"/>
                </a:lnTo>
                <a:lnTo>
                  <a:pt x="17981" y="7536"/>
                </a:lnTo>
                <a:lnTo>
                  <a:pt x="16144" y="7536"/>
                </a:lnTo>
                <a:lnTo>
                  <a:pt x="16144" y="12871"/>
                </a:lnTo>
                <a:cubicBezTo>
                  <a:pt x="16144" y="15639"/>
                  <a:pt x="13568" y="18198"/>
                  <a:pt x="10800" y="18198"/>
                </a:cubicBezTo>
                <a:lnTo>
                  <a:pt x="9138" y="18198"/>
                </a:lnTo>
                <a:cubicBezTo>
                  <a:pt x="6370" y="18198"/>
                  <a:pt x="3794" y="15639"/>
                  <a:pt x="3794" y="12871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rió a los ochenta y ocho años, el 25 de diciembre de 1977. Dejaba un total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79 películas filmadas en más de cincuenta años de actividad como actor y direct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rme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1916), según la novela de Merimé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Vagabon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vagabundo), 1916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A Day's Pleasu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Un día de juerga), 19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ay Day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Día de paga), 1922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Pilgri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peregrino), 1923, entre las más apreciadas por la crítica y celebradas por el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35640" y="2916360"/>
            <a:ext cx="2070000" cy="169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465300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Haga click sobre la imagen para reproducir el vide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0:13:43Z</dcterms:created>
  <dc:creator>juan.ruiz</dc:creator>
  <dc:description/>
  <dc:language>en-US</dc:language>
  <cp:lastModifiedBy>Ana </cp:lastModifiedBy>
  <dcterms:modified xsi:type="dcterms:W3CDTF">2010-02-01T19:19:44Z</dcterms:modified>
  <cp:revision>23</cp:revision>
  <dc:subject/>
  <dc:title>Charles Chaplin (1889-1977)</dc:title>
</cp:coreProperties>
</file>