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DFA8C-EF0C-4237-BD83-ECA322EB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199E6-68D6-4961-B1EB-A9760B32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A3619-7485-4BA9-B2CA-BF2425F9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D9BE1-0C30-49D0-8464-29A45211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D7EB-8B36-4EBC-935F-4610747F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4FA0-7842-43A9-9857-F36F295E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70FC-BA5F-4B43-9B34-1AECAF41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D1A5-C275-4C12-9ADC-A1A3839E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65E5-1D2D-4C42-B570-94AD2E0D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338E-24B4-4747-A3B4-C82402E5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4CE8-D7A0-4E27-9F17-043E91BB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F5F80-FEB8-4389-B84C-4BF07BF0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196F-66E3-4EA4-8A75-36BBEC5F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337B-D4E3-47A4-9538-CFBECF88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921B-D587-4ADD-868D-505FFB5F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4196-71BD-4A1F-A681-4D8D4FE5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B881-C3FE-411B-90B7-0E1985A8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980BA-8448-4A68-81C2-1D81D6AB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F3944-DF28-436E-9349-4540D103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C3C26-4428-486E-9335-44EA4A77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34362-92D4-4E9F-9A61-18536AD1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8CA11-11C1-4306-82EB-F94F7C49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29097-5BAA-4AA1-9899-374D0B0D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77986-B056-440B-96E4-BF587441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7655-F31D-4D68-B315-AC0F5CF0970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A647-6C86-49F9-8135-FAA319AD3FE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slide" Target="slide7.xml"/><Relationship Id="rId4" Type="http://schemas.openxmlformats.org/officeDocument/2006/relationships/image" Target="../media/image2.jpeg"/><Relationship Id="rId5" Type="http://schemas.openxmlformats.org/officeDocument/2006/relationships/slide" Target="slide6.xml"/><Relationship Id="rId6" Type="http://schemas.openxmlformats.org/officeDocument/2006/relationships/image" Target="../media/image3.jpeg"/><Relationship Id="rId7" Type="http://schemas.openxmlformats.org/officeDocument/2006/relationships/slide" Target="slide2.xml"/><Relationship Id="rId8" Type="http://schemas.openxmlformats.org/officeDocument/2006/relationships/image" Target="../media/image4.jpeg"/><Relationship Id="rId9" Type="http://schemas.openxmlformats.org/officeDocument/2006/relationships/slide" Target="slide9.xml"/><Relationship Id="rId10" Type="http://schemas.openxmlformats.org/officeDocument/2006/relationships/image" Target="../media/image5.jpeg"/><Relationship Id="rId11" Type="http://schemas.openxmlformats.org/officeDocument/2006/relationships/slide" Target="slide8.xml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1.jpe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ffff"/>
                </a:solidFill>
                <a:latin typeface="Arial"/>
              </a:rPr>
              <a:t>CHARLES CHAPLI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Imagen 1" descr="http://www.biografiasyvidas.com/monografia/chaplin/fotos/chaplin_teatro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661000"/>
            <a:ext cx="1222200" cy="915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65080" y="48466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V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n 2" descr="http://www.biografiasyvidas.com/monografia/chaplin/fotos/chaplin_elcirco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51280" y="5589720"/>
            <a:ext cx="1224000" cy="871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95240" y="592596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MIENZ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N HOLLYW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magen 3" descr="http://www.biografiasyvidas.com/monografia/chaplin/fotos/chaplin_oona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52720" y="4581360"/>
            <a:ext cx="1224000" cy="771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294520" y="484668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M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4520" y="573408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patriar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Ve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39640" y="4508640"/>
            <a:ext cx="685800" cy="836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69800" y="484668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EM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877080" y="5764320"/>
            <a:ext cx="69048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887240" y="58053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888240" y="4724280"/>
            <a:ext cx="67464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461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harles Chaplin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(1889-19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ació el 16 de abril de 1889, en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alworth (Londre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padres eran cantantes y actores de variedades de origen judí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ció en el barrio de Kensington, rodeado de muchos actores de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music-hall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Quedó al cuidado de su madre cuando el matrimonio se separó, poco después de su naci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 padre murió cuando tenía 12 años, y éste (junto con su hermano Sidney) pasó largos períodos de tiempo en orfana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 unió a los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ight Lancashire Lad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n grupo de actores juveniles aficionados que hacían giras por los pueb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1901, con doce años, representó el rol de protagonista en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Jim, the Romance of a Cockney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y cuatro años más tarde realizó una gira con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The Painful Predicament of Sherlock Holm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3132000" y="6259680"/>
            <a:ext cx="331164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pic>
        <p:nvPicPr>
          <p:cNvPr id="124" name="Imagen 1" descr="http://www.biografiasyvidas.com/monografia/chaplin/fotos/chaplin_teatro.jpg"/>
          <p:cNvPicPr/>
          <p:nvPr/>
        </p:nvPicPr>
        <p:blipFill>
          <a:blip r:embed="rId4"/>
          <a:stretch/>
        </p:blipFill>
        <p:spPr>
          <a:xfrm>
            <a:off x="5148360" y="198900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3520" y="4507560"/>
            <a:ext cx="289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lin e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 Night in the Sh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(Charlot en el teatro)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5" action="ppaction://hlinksldjump"/>
          </p:cNvPr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os comienzos en Holly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 19 años vivió su primero romance, al enamorarse de la joven actriz Hetty Ke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ed Karno le ayudo a perfeccionar sus recursos mí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 de febrero de 1914, estrena su primera película, Making a Living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Ganándose la vi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15, la productora Essanay lo contrata por 1.500 dólares a la sem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 la Essanay, Chaplin pasó a escribir y dirigir los catorce films que rodó en 19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nombre de Charlot se lo daría en 1915 el distribuidor de sus filmes en F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18 la First National contrató a Charlie Chaplin por la cifra récord de un millón de dólares anu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700360" y="6237360"/>
            <a:ext cx="4321080" cy="498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7386480" y="5519880"/>
            <a:ext cx="366840" cy="361800"/>
          </a:xfrm>
          <a:custGeom>
            <a:avLst/>
            <a:gdLst>
              <a:gd name="textAreaLeft" fmla="*/ 23400 w 366840"/>
              <a:gd name="textAreaRight" fmla="*/ 343440 w 36684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901" h="21600">
                <a:moveTo>
                  <a:pt x="0" y="0"/>
                </a:moveTo>
                <a:lnTo>
                  <a:pt x="21901" y="0"/>
                </a:lnTo>
                <a:lnTo>
                  <a:pt x="21901" y="21600"/>
                </a:lnTo>
                <a:lnTo>
                  <a:pt x="0" y="21600"/>
                </a:lnTo>
                <a:close/>
              </a:path>
              <a:path fill="lightenLess" w="21901" h="21600">
                <a:moveTo>
                  <a:pt x="0" y="0"/>
                </a:moveTo>
                <a:lnTo>
                  <a:pt x="21901" y="0"/>
                </a:lnTo>
                <a:lnTo>
                  <a:pt x="20501" y="1400"/>
                </a:lnTo>
                <a:lnTo>
                  <a:pt x="1400" y="1400"/>
                </a:lnTo>
                <a:close/>
              </a:path>
              <a:path fill="darken" w="21901" h="21600">
                <a:moveTo>
                  <a:pt x="21901" y="0"/>
                </a:moveTo>
                <a:lnTo>
                  <a:pt x="21901" y="21600"/>
                </a:lnTo>
                <a:lnTo>
                  <a:pt x="20501" y="20200"/>
                </a:lnTo>
                <a:lnTo>
                  <a:pt x="20501" y="1400"/>
                </a:lnTo>
                <a:close/>
              </a:path>
              <a:path fill="darkenLess" w="21901" h="21600">
                <a:moveTo>
                  <a:pt x="21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01" y="20200"/>
                </a:lnTo>
                <a:close/>
              </a:path>
              <a:path fill="lighten" w="21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01" h="21600">
                <a:moveTo>
                  <a:pt x="3944" y="3794"/>
                </a:moveTo>
                <a:lnTo>
                  <a:pt x="17957" y="10800"/>
                </a:lnTo>
                <a:lnTo>
                  <a:pt x="394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os comienzos en Holly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19 Chaplin, Pickford y Fairbanks, junto al director David W. Griffith, constituyen la productora United Art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23, con productora propia, sólida fortuna personal y una suntuosa mansión en Beverly Hills, se sintió al fin con las manos libres para desarrollar sin ataduras su creativ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e año dirigió, sin actuar, la excelente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 Woman of Par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con su admirada Edna y Adolphe Menj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25 rued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The Gold Rus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a quimera del oro), de la que en 1942 realizó una versión sonora narrada por su voz y con música propia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8028000" y="572940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6877080" y="5734080"/>
            <a:ext cx="366840" cy="361800"/>
          </a:xfrm>
          <a:custGeom>
            <a:avLst/>
            <a:gdLst>
              <a:gd name="textAreaLeft" fmla="*/ 23400 w 366840"/>
              <a:gd name="textAreaRight" fmla="*/ 343440 w 36684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901" h="21600">
                <a:moveTo>
                  <a:pt x="0" y="0"/>
                </a:moveTo>
                <a:lnTo>
                  <a:pt x="21901" y="0"/>
                </a:lnTo>
                <a:lnTo>
                  <a:pt x="21901" y="21600"/>
                </a:lnTo>
                <a:lnTo>
                  <a:pt x="0" y="21600"/>
                </a:lnTo>
                <a:close/>
              </a:path>
              <a:path fill="lightenLess" w="21901" h="21600">
                <a:moveTo>
                  <a:pt x="0" y="0"/>
                </a:moveTo>
                <a:lnTo>
                  <a:pt x="21901" y="0"/>
                </a:lnTo>
                <a:lnTo>
                  <a:pt x="20501" y="1400"/>
                </a:lnTo>
                <a:lnTo>
                  <a:pt x="1400" y="1400"/>
                </a:lnTo>
                <a:close/>
              </a:path>
              <a:path fill="darken" w="21901" h="21600">
                <a:moveTo>
                  <a:pt x="21901" y="0"/>
                </a:moveTo>
                <a:lnTo>
                  <a:pt x="21901" y="21600"/>
                </a:lnTo>
                <a:lnTo>
                  <a:pt x="20501" y="20200"/>
                </a:lnTo>
                <a:lnTo>
                  <a:pt x="20501" y="1400"/>
                </a:lnTo>
                <a:close/>
              </a:path>
              <a:path fill="darkenLess" w="21901" h="21600">
                <a:moveTo>
                  <a:pt x="21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01" y="20200"/>
                </a:lnTo>
                <a:close/>
              </a:path>
              <a:path fill="lighten" w="21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01" h="21600">
                <a:moveTo>
                  <a:pt x="3944" y="10800"/>
                </a:moveTo>
                <a:lnTo>
                  <a:pt x="17957" y="3794"/>
                </a:lnTo>
                <a:lnTo>
                  <a:pt x="17957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7243920" y="5737320"/>
            <a:ext cx="366480" cy="361800"/>
          </a:xfrm>
          <a:custGeom>
            <a:avLst/>
            <a:gdLst>
              <a:gd name="textAreaLeft" fmla="*/ 23400 w 366480"/>
              <a:gd name="textAreaRight" fmla="*/ 343080 w 36648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879" h="21600">
                <a:moveTo>
                  <a:pt x="0" y="0"/>
                </a:moveTo>
                <a:lnTo>
                  <a:pt x="21879" y="0"/>
                </a:lnTo>
                <a:lnTo>
                  <a:pt x="21879" y="21600"/>
                </a:lnTo>
                <a:lnTo>
                  <a:pt x="0" y="21600"/>
                </a:lnTo>
                <a:close/>
              </a:path>
              <a:path fill="lightenLess" w="21879" h="21600">
                <a:moveTo>
                  <a:pt x="0" y="0"/>
                </a:moveTo>
                <a:lnTo>
                  <a:pt x="21879" y="0"/>
                </a:lnTo>
                <a:lnTo>
                  <a:pt x="20479" y="1400"/>
                </a:lnTo>
                <a:lnTo>
                  <a:pt x="1400" y="1400"/>
                </a:lnTo>
                <a:close/>
              </a:path>
              <a:path fill="darken" w="21879" h="21600">
                <a:moveTo>
                  <a:pt x="21879" y="0"/>
                </a:moveTo>
                <a:lnTo>
                  <a:pt x="21879" y="21600"/>
                </a:lnTo>
                <a:lnTo>
                  <a:pt x="20479" y="20200"/>
                </a:lnTo>
                <a:lnTo>
                  <a:pt x="20479" y="1400"/>
                </a:lnTo>
                <a:close/>
              </a:path>
              <a:path fill="darkenLess" w="21879" h="21600">
                <a:moveTo>
                  <a:pt x="21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79" y="20200"/>
                </a:lnTo>
                <a:close/>
              </a:path>
              <a:path fill="lighten" w="21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79" h="21600">
                <a:moveTo>
                  <a:pt x="3933" y="3794"/>
                </a:moveTo>
                <a:lnTo>
                  <a:pt x="17946" y="10800"/>
                </a:lnTo>
                <a:lnTo>
                  <a:pt x="393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os comienzos en Holly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27, estrenó la primera película sonora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El cantor de jazz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con Al Jo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28 realizó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The circu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El circo), película que él mismo consideraba menos lograda que las que integraban la trilogía, pese a ser un magnífico filme cómico. (recibió su primer Oscar de la Academia en 1929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s años más tarde estrenó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City Light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Luces de la ciudad), paradigma de la ternura y la desolación de su alter ego cinematográfico, con inclusión de escenas sonoras y música de Chap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32 realizó un nuevo y extenso viaje a Europa, donde en una recepción conoció a la actriz francesa Paulette Godda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7020000" y="5516640"/>
            <a:ext cx="366480" cy="361800"/>
          </a:xfrm>
          <a:custGeom>
            <a:avLst/>
            <a:gdLst>
              <a:gd name="textAreaLeft" fmla="*/ 23400 w 366480"/>
              <a:gd name="textAreaRight" fmla="*/ 343080 w 36648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879" h="21600">
                <a:moveTo>
                  <a:pt x="0" y="0"/>
                </a:moveTo>
                <a:lnTo>
                  <a:pt x="21879" y="0"/>
                </a:lnTo>
                <a:lnTo>
                  <a:pt x="21879" y="21600"/>
                </a:lnTo>
                <a:lnTo>
                  <a:pt x="0" y="21600"/>
                </a:lnTo>
                <a:close/>
              </a:path>
              <a:path fill="lightenLess" w="21879" h="21600">
                <a:moveTo>
                  <a:pt x="0" y="0"/>
                </a:moveTo>
                <a:lnTo>
                  <a:pt x="21879" y="0"/>
                </a:lnTo>
                <a:lnTo>
                  <a:pt x="20479" y="1400"/>
                </a:lnTo>
                <a:lnTo>
                  <a:pt x="1400" y="1400"/>
                </a:lnTo>
                <a:close/>
              </a:path>
              <a:path fill="darken" w="21879" h="21600">
                <a:moveTo>
                  <a:pt x="21879" y="0"/>
                </a:moveTo>
                <a:lnTo>
                  <a:pt x="21879" y="21600"/>
                </a:lnTo>
                <a:lnTo>
                  <a:pt x="20479" y="20200"/>
                </a:lnTo>
                <a:lnTo>
                  <a:pt x="20479" y="1400"/>
                </a:lnTo>
                <a:close/>
              </a:path>
              <a:path fill="darkenLess" w="21879" h="21600">
                <a:moveTo>
                  <a:pt x="21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79" y="20200"/>
                </a:lnTo>
                <a:close/>
              </a:path>
              <a:path fill="lighten" w="21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79" h="21600">
                <a:moveTo>
                  <a:pt x="3933" y="10800"/>
                </a:moveTo>
                <a:lnTo>
                  <a:pt x="17946" y="3794"/>
                </a:lnTo>
                <a:lnTo>
                  <a:pt x="1794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m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 matrimonio con la actriz de 19 años Mildred Harris, celebrado el 23 de octubre, duraría hasta 1920 y el divorcio le costó a Charles 200.000 de sus preciosos dó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24 de noviembre de 1924 con 35 años, contrajo matrimonio en México con la jovencísima actriz Lolita McMurray (o Lita Grey), de 16  años. La unión duró hasta 1927 y Chaplin obtuvo de ella sus dos primeros hijos (Charles Spencer y Sydney Earle) y pagó un millón de dólares al divorciarse de su Lol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los 54 años se casa con Oona joven de 18 años e  hija del insigne dramaturgo Eugene O'Neill, y con la que permanecería a su lado el resto de su v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Imagen 3" descr="http://www.biografiasyvidas.com/monografia/chaplin/fotos/chaplin_oona.jpg"/>
          <p:cNvPicPr/>
          <p:nvPr/>
        </p:nvPicPr>
        <p:blipFill>
          <a:blip r:embed="rId4"/>
          <a:stretch/>
        </p:blipFill>
        <p:spPr>
          <a:xfrm>
            <a:off x="5076720" y="2349360"/>
            <a:ext cx="3238560" cy="20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patriarca de Veve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s rodar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Monsieur Verdoux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1947, cayó bajo la ola del maccarthismo que tenía como blanco a intelectuales y artistas de Hollywo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52 rodó e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ondres Limeligh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Candilejas), magnífica y sentimental rememoración de sus días de cómico ambulante, y dos años más tarde recibió el Premio Internacional de la Pa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resentimiento contra Estados Unidos se reflejó e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 King in New York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Un rey en Nueva York), filme de 1957 cuyos altibajos no ocultan el corrosivo humor chaplini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los 78 años fue padre de su octavo hijo con Oona, Christopher, nacido en 19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64 se publicó en Londres su autobiografía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Historia de mi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1972 retorno a Hollywood, para recibir un Oscar por la totalidad de su obr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028000" y="565776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em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928 Óscar Honorífico «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or su versatilidad al producir, escribir, dirigir y actuar en su películ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l circo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971 Óscar Honorífico «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or el incalculable efecto que ha producido en el arte del siglo XX: el cin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972 Óscar a la mejor música original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Candilej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junto a Ray Rass y Larry Russe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BAFTA. 1977 Premio Espe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estival de Venecia. 1972 León de Oro por toda su carre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de la Crítica de Cine de Nueva York. 1940 Mejor Actor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gran dict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25 Mejor Película Artístic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Una mujer de Parí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27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La quimera del or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53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Monsieur Verdoux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61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gran dict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Jussi. 1974 Mejor Cineasta Extranjero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Tiempos modern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gran dict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Bodil. 1949 Mejor Película American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Monsieur Verdoux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Bodil. 1959 Premio Honora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del Círculo de Escritores de España. 1956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Candilej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028000" y="5950080"/>
            <a:ext cx="361800" cy="36324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240"/>
              <a:gd name="textAreaBottom" fmla="*/ 339840 h 36324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3794" y="7536"/>
                </a:moveTo>
                <a:lnTo>
                  <a:pt x="7301" y="7536"/>
                </a:lnTo>
                <a:lnTo>
                  <a:pt x="7301" y="12871"/>
                </a:lnTo>
                <a:cubicBezTo>
                  <a:pt x="7301" y="13793"/>
                  <a:pt x="8102" y="14525"/>
                  <a:pt x="9138" y="14525"/>
                </a:cubicBezTo>
                <a:lnTo>
                  <a:pt x="10800" y="14525"/>
                </a:lnTo>
                <a:cubicBezTo>
                  <a:pt x="11836" y="14525"/>
                  <a:pt x="12636" y="13793"/>
                  <a:pt x="12636" y="12871"/>
                </a:cubicBezTo>
                <a:lnTo>
                  <a:pt x="12636" y="7536"/>
                </a:lnTo>
                <a:lnTo>
                  <a:pt x="10800" y="7536"/>
                </a:lnTo>
                <a:lnTo>
                  <a:pt x="14308" y="4028"/>
                </a:lnTo>
                <a:lnTo>
                  <a:pt x="17981" y="7536"/>
                </a:lnTo>
                <a:lnTo>
                  <a:pt x="16144" y="7536"/>
                </a:lnTo>
                <a:lnTo>
                  <a:pt x="16144" y="12871"/>
                </a:lnTo>
                <a:cubicBezTo>
                  <a:pt x="16144" y="15639"/>
                  <a:pt x="13568" y="18198"/>
                  <a:pt x="10800" y="18198"/>
                </a:cubicBezTo>
                <a:lnTo>
                  <a:pt x="9138" y="18198"/>
                </a:lnTo>
                <a:cubicBezTo>
                  <a:pt x="6370" y="18198"/>
                  <a:pt x="3794" y="15639"/>
                  <a:pt x="3794" y="12871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rió a los ochenta y ocho años, el 25 de diciembre de 1977. Dejaba un total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79 películas filmadas en más de cincuenta años de actividad como actor y direct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Carme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1916), según la novela de Merimé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The Vagabon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El vagabundo), 1916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A Day's Pleasur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Un día de juerga), 19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ay Day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Día de paga), 1922,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The Pilgri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El peregrino), 1923, entre las más apreciadas por la crítica y celebradas por el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35640" y="2916360"/>
            <a:ext cx="2070000" cy="1693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48360" y="4653000"/>
            <a:ext cx="280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00" spc="-1" strike="noStrike">
                <a:solidFill>
                  <a:srgbClr val="000000"/>
                </a:solidFill>
                <a:latin typeface="Arial"/>
              </a:rPr>
              <a:t>Haga click sobre la imagen para reproducir el vide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0:13:43Z</dcterms:created>
  <dc:creator>juan.ruiz</dc:creator>
  <dc:description/>
  <dc:language>en-US</dc:language>
  <cp:lastModifiedBy>Ana </cp:lastModifiedBy>
  <dcterms:modified xsi:type="dcterms:W3CDTF">2010-02-01T19:19:44Z</dcterms:modified>
  <cp:revision>23</cp:revision>
  <dc:subject/>
  <dc:title>Charles Chaplin (1889-1977)</dc:title>
</cp:coreProperties>
</file>